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</p:sldMasterIdLst>
  <p:sldIdLst>
    <p:sldId id="256" r:id="rId52"/>
    <p:sldId id="257" r:id="rId53"/>
    <p:sldId id="258" r:id="rId54"/>
    <p:sldId id="259" r:id="rId55"/>
    <p:sldId id="260" r:id="rId56"/>
    <p:sldId id="261" r:id="rId57"/>
    <p:sldId id="262" r:id="rId58"/>
    <p:sldId id="263" r:id="rId59"/>
    <p:sldId id="264" r:id="rId60"/>
    <p:sldId id="265" r:id="rId61"/>
    <p:sldId id="266" r:id="rId62"/>
    <p:sldId id="267" r:id="rId63"/>
    <p:sldId id="268" r:id="rId64"/>
    <p:sldId id="269" r:id="rId65"/>
    <p:sldId id="270" r:id="rId66"/>
    <p:sldId id="271" r:id="rId67"/>
    <p:sldId id="272" r:id="rId68"/>
    <p:sldId id="273" r:id="rId69"/>
    <p:sldId id="274" r:id="rId70"/>
    <p:sldId id="275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" Target="slides/slide1.xml"/><Relationship Id="rId53" Type="http://schemas.openxmlformats.org/officeDocument/2006/relationships/slide" Target="slides/slide2.xml"/><Relationship Id="rId54" Type="http://schemas.openxmlformats.org/officeDocument/2006/relationships/slide" Target="slides/slide3.xml"/><Relationship Id="rId55" Type="http://schemas.openxmlformats.org/officeDocument/2006/relationships/slide" Target="slides/slide4.xml"/><Relationship Id="rId56" Type="http://schemas.openxmlformats.org/officeDocument/2006/relationships/slide" Target="slides/slide5.xml"/><Relationship Id="rId57" Type="http://schemas.openxmlformats.org/officeDocument/2006/relationships/slide" Target="slides/slide6.xml"/><Relationship Id="rId58" Type="http://schemas.openxmlformats.org/officeDocument/2006/relationships/slide" Target="slides/slide7.xml"/><Relationship Id="rId59" Type="http://schemas.openxmlformats.org/officeDocument/2006/relationships/slide" Target="slides/slide8.xml"/><Relationship Id="rId60" Type="http://schemas.openxmlformats.org/officeDocument/2006/relationships/slide" Target="slides/slide9.xml"/><Relationship Id="rId61" Type="http://schemas.openxmlformats.org/officeDocument/2006/relationships/slide" Target="slides/slide10.xml"/><Relationship Id="rId62" Type="http://schemas.openxmlformats.org/officeDocument/2006/relationships/slide" Target="slides/slide11.xml"/><Relationship Id="rId63" Type="http://schemas.openxmlformats.org/officeDocument/2006/relationships/slide" Target="slides/slide12.xml"/><Relationship Id="rId64" Type="http://schemas.openxmlformats.org/officeDocument/2006/relationships/slide" Target="slides/slide13.xml"/><Relationship Id="rId65" Type="http://schemas.openxmlformats.org/officeDocument/2006/relationships/slide" Target="slides/slide14.xml"/><Relationship Id="rId66" Type="http://schemas.openxmlformats.org/officeDocument/2006/relationships/slide" Target="slides/slide15.xml"/><Relationship Id="rId67" Type="http://schemas.openxmlformats.org/officeDocument/2006/relationships/slide" Target="slides/slide16.xml"/><Relationship Id="rId68" Type="http://schemas.openxmlformats.org/officeDocument/2006/relationships/slide" Target="slides/slide17.xml"/><Relationship Id="rId69" Type="http://schemas.openxmlformats.org/officeDocument/2006/relationships/slide" Target="slides/slide18.xml"/><Relationship Id="rId70" Type="http://schemas.openxmlformats.org/officeDocument/2006/relationships/slide" Target="slides/slide19.xml"/><Relationship Id="rId71" Type="http://schemas.openxmlformats.org/officeDocument/2006/relationships/slide" Target="slides/slide20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D1CB-F791-47E3-A4B6-A10DAA5E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F449-6078-421D-BC4A-E635D74B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E6AA2-53A4-4B48-B5A9-58E925D6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E1A2D-A0E2-40F1-9C98-091CF842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ADA02-EDCC-484C-B1E3-D6445CE8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2CCA8-6C5E-49F1-B598-DAB4F13A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2ADB2-077B-4D85-BB67-4ADD8221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6DF90-3E2B-49A6-974B-39B004AA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D5117-E103-45F9-A7D6-764A62C8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9CB55-41C9-4616-A03E-E9512280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7DAC1-842C-4571-A4E6-57457CED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9C74C-91FE-4500-9DFA-5D959929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02D7-DCB2-4CC3-8699-FC59AC5E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AAC5A-1515-47A6-A9FE-250BF4A0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92D6C-30B1-4F27-BF1D-C71181D4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4F88C-D681-4375-92FD-C7B1B2E2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8B588-B760-48BE-805F-784E959F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E7A83-C99B-4DFC-926A-E29A3BAA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F5682-9C99-4B96-82A0-C80AC3BC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1A6AC-8462-4667-8626-27D75FCA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12CBD-60A8-4A02-B325-4FC411B3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132E1-057A-470E-AEA4-3798D778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40D13-3B49-4E86-9738-8A76A9E9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C38-20AA-47D3-95E5-4BBB87F7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B9244-CA83-4501-A176-F1D94150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4AFA9-CD3A-4A2A-B20B-C9D92FC9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EF275-FD7B-4266-852B-640742AC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BA46D-1BD5-4ED3-BCE1-633EBA2C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1DEF7-9585-4121-9895-5A931E29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A21C7-8A0D-4EC5-87A6-523FA155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48D06-B2CF-4F8D-AC22-ED15D67D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CC286-3511-40D2-9DE1-2B759BAC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0D402-18A1-4F08-8884-8D5B8B33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F09DE-5357-43B7-8681-21AECB7D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E90D-41C3-476F-956F-E30CAD5D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3EB76-42A2-4969-A1E6-30E70425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F7220-2E98-40CA-83E0-BEA97380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66B79-C668-4D63-A68C-EACE0518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0802C-A163-4BA0-95D6-E5D94E60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4FE15-11C8-4B39-A367-2C993D44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7509C-2D95-4A0C-98F7-0EB3DA09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D8972-004B-41E3-8494-85AA03C9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C36D9-5DBC-4C89-91D5-33957A15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56BB7-1AE0-4943-9F2D-B5152ED6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00022-3588-4290-B41C-1F96D4C0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68BE-9E0F-4E83-BA05-51577910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940D7-4026-4E1F-9B7D-DB8549AC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FB795-A7AD-44A2-8795-4B71CB6A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E70BA-1556-40FE-9796-81BAAD57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07020-A9E8-473E-9C4F-06490FEA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C8B60-6085-4D01-B769-9A0049F1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72A3D-830B-45B0-A028-D181131A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869843-315B-457F-9E34-6B4F30A4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0B673D-27E5-41BC-8D25-FCCF1EBC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F01BA-5153-4116-A78E-63F6070E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FA6CDF-4038-4134-9D7F-C7CAE520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D425-4B7E-46EC-9FEE-97EF1D88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FDF859-37F3-46BD-920C-35C2AF64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7D6FE1-40B1-4069-BC1C-27F5AEA3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9740A-EED1-408A-8849-E59EA317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85A67B-6339-47C7-ACCC-DCDFCF72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D6D4BD-EB6E-4D8E-94ED-5AFEEF37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D6949-EF5D-406C-A3FE-F92B6643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C1C81E-046A-435A-9552-550833BB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881432-8757-4DCD-A73D-15DABA98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EFD919-C543-40EC-8846-C4E628B4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5EB400-5DD1-450C-8652-94E5CD7D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F6D6-2209-468D-BCFE-B2CB1067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E88E02-8957-4A05-BB4F-47CAB404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99403A-CDE3-4788-AD2E-B7D34560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1531D2-266A-408C-A102-6DB7CC53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740CEE-157F-4CBE-85C5-5DEEE737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DB8BC3-894A-42F3-8A68-F460334B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973735-6978-4849-9FD1-C2619A1F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DE1B91-E576-41DC-9863-45E6CBCB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8D3D58-DA3C-489B-892A-0EB617D8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3E4CD1-8CCA-4236-BBDC-ECB43499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8CFE7E-A365-428A-A1FF-173DCCDF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43C7-7BA9-4415-BE80-0ED884DC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7629DA-249A-4D1A-9D7C-75236956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369CBB-053E-4B51-A605-A029E1B7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91C098-B304-4CCA-B3FC-AD826051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654D21-3A2B-482C-BDC3-1A2F51A2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FC5F6A-F4B5-4E89-95FE-5288C00F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E426F8-3E24-4883-9635-4D808089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EBCDA6-48A3-438A-A508-8D9E7BAF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D5C8F4-B673-434A-864E-114FE265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4BF4BF-5449-42C3-BC8E-B402982B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FB6BD5-EF55-45C3-A68A-46C465B6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64B8-74FB-4DD3-9FAB-9301C0D6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23CD9B-E2E5-4936-A063-AF0067CD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4247B3-7183-422E-ADB9-7EA0AEBE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1DA5F0-5DDE-47C2-A5B1-812AC134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EA4B93-44E2-47D7-934B-E87F7F89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D72D82-F5B8-458A-BC2A-E995DF7E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4634AB-19C7-40B2-BA16-3FC44EFE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CF392C-D7CC-444A-86F0-201338BB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EB147D-AF48-433B-933B-0A4695E0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B96E81-8E79-476F-AAE6-F1027E4E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3C66BC-3EFD-4777-A167-FBAA2476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8CAE-357E-434C-AD14-91A2A3E3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423EB7-DB98-490D-A457-B0E31CF9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F7DC6C-297F-42FD-AA9D-EADA26FC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F65C83-502D-412D-935A-8DACF470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0689B2-CA20-42F1-B6DB-4EB1E660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6C2DA1-6FE5-403D-80F1-CBE974B8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F4D068-1268-4EC8-BF79-1CCC4FBB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860745-C7DC-4488-93A8-A60ADA8A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BB9F6A-2C00-4C45-ACF6-17B4E680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1A6E6D-4907-4490-BF21-B378E739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77A922-DF9C-400A-B211-F2DCE068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BFE7-D5CD-4391-8891-E4F604FB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A114-0971-489A-A011-4ED5022D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16E50F-A6A3-4E34-868D-19673766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A9E6F7-7B6B-4287-BA79-9EEEB6C4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8AB13E-F0F1-4A0A-BEAC-EBC377B4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DA66AD-0E6A-4744-A749-AD8C02B5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5CF226-163C-439B-A271-9E1AA919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5BF9B1-F176-4DA4-BB7C-07AAA07E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28FF40-9371-447C-ABD7-573DA90F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F7D92C-C834-40C6-B874-F9562473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94BE5A-F3D3-43E2-84D1-3877BF64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87FC78-FCA2-4616-AC4E-8E360166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ED17-8396-4DBF-A6C0-B708F08D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F6A840-066A-4FC5-97D5-0044CE2E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F436F0-9B47-4E84-BE08-8C044324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1B9163-C909-4E95-B16E-D7CD3BB6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91EB1A-CAFD-412E-A432-48041062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9B53C1-ADB6-44F3-B0FB-9761B0FD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AB5213-2AA3-409A-AC50-E63A98E9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E10672-020D-44C4-B5EC-10B00938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19F0E9-7E50-4EAE-88FB-3E3C05F5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25EF62-F6F9-403D-9E92-A27F2552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452447-2241-424C-93AD-80D0E4DD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49F6-0454-4FB8-BFBA-50496561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CFFEE8-5016-42E1-9607-F4D68FFD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16C442-E2B8-461B-8B31-DA62E5B8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7279D7-577D-4719-8BAF-7BE9BBCF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7AB3B6-0F8C-4547-A3FE-CDCFA2E4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A38CEF-924A-49D4-AA8B-D5FFC948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7036D6-A34D-4DA0-9B77-0C39673E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C1723B-3368-446C-B4C1-9A4FD1FB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2D32A3-67FB-465B-AC86-7977A5A1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22AD9F-E559-47E4-B8C2-28A1B218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C5BACA-5561-4719-A171-FD52D7D5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8313-295C-46DD-93B4-3D75D191D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639F53-B2F3-470C-AD6F-7CC7A16B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FDFB41-B60B-4331-81E7-0FC7655F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2FE707-05C8-44B5-AE7E-97E6EB22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50A4A9-E579-48E1-8152-8A3E3DBC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5CB620-66A1-476E-B891-96831A5C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4593B6-505A-45D5-B7EA-B48656D2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3620FD-5E2F-40CF-AB45-59DB0185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88D997-B2B7-4F5F-AB14-D1F30EF0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1094C9-C65E-4EE5-9EE0-BF649188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FC459F-4874-4A65-9E69-D50B00C1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E190-DD23-44A4-90F4-FDECB27D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1A15E4-D558-40D7-A4E0-09BF6C48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A8F903-29D7-4A93-82CE-D8B590C0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6F3A49-21B5-4F83-8092-4FE180E8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C48E54-97C6-43F6-95B9-E7C89DDC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FD730F-F6E4-410F-B455-CFAE2D55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0B9974-0382-457A-8098-3354E7DD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3370D0-CC0E-4530-B5B0-F313455B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B9CE23-03BC-4578-8665-AD37C96A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A78EBB-DEDC-4323-9AF1-C6D04F42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88286F-DBB6-462F-8977-78043F2B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5B086-F112-4E89-9311-0C1A515A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E8F690-B999-4155-B6E9-4E177D22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8A5D23-F7A7-4F1E-ADEA-AA2C387C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71CD12-3AB4-4592-AB9D-0D5A5262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B5D712-BFEB-4682-92F7-CB0E2E31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58AAAF-9113-4216-A786-B3653F2E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3200BE-AD7F-48E8-8511-F4B61C41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7CB76B-47E6-422F-A293-EEFB688E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5AEE22-50A2-4EB7-A1BB-110D92D7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19C966-5D26-4A47-9389-E32DA872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17E2D1-9BC5-4A3D-BA79-381EF407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2F58A-47DE-4158-8E40-F5FACAC9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3C3C37-F6C8-4E5F-8DED-18DB356D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2239BE-3836-4D24-9FF4-AB435F1A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2DA348-0560-4AC0-9AC0-04CF91D2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DBCABD-2588-4D38-AFF2-8FB8C7C4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45D1B1-EA48-49CF-A002-9A939983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07C048-17AF-4459-8582-73E11FD5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E4F5C6-D316-487C-AA5B-202FB9D5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F0DFD0-7B5D-4A26-9E4C-954D891A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33B35B-E3AE-4372-BE6B-F4E92EC6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B33ABE-713B-4AB8-AA34-A96BC02D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33223-DB6E-4BEE-920A-D1EB0F8E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026CB6-B208-4E31-B421-85AEE709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3E343F-DEAA-4B29-9BC1-A04D0B9D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82546F-3C99-45A3-AF17-8BB83643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EB987C-7B85-4B54-9564-44E1B281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5451B0-9BFB-410C-948D-05693192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C32A46-60B8-4253-B157-516A3B57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89525F-D0D9-48FC-8209-2C421D6E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43BDEC-3281-41AC-BAE2-7A0BD8A6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85FF87-1B34-4599-8A03-380F2D12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1215EF-46A7-4806-916C-D2CD5626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A81DE-776B-4940-959D-E2BF6F84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4FAFAB-5ADA-49F9-B7FF-FE305307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C8BA83-DFF4-4D8E-93AE-775CAF83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7ECA0F-C859-4155-9326-ADAA0972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931FB1-3326-42F5-8CFE-6FEA7B19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A0784C-C664-4B42-8ED4-4283C13B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4AB081-6F0C-4126-8EE3-9BF0B018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86F678-9BDD-4495-B6CE-7BEC34A1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12609C-023B-430A-ABF4-866E9C60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7A0A97-D847-4D69-84CE-AFEDFD15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279F32-8AED-4BCE-ADCA-74DDB096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B0027-E820-4CC1-A807-0280E813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79E686-EBCA-41C1-B585-63119B47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CFD4A2-5BBD-4529-8476-04B1E9AB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BA90DA-853F-409D-91DF-C08E21FC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543D00-D7F5-4E68-BD42-10AE129C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D0191C-2054-49AB-9245-20CB55BE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A02800-917E-4302-86AC-9B970CA3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1BA833-7589-4607-B7BF-2D76A390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56BFFE-0019-4DC2-9170-D60623B2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8E31A2-D7CA-4FFC-BCC7-570A1638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FBBCB9-C82F-4E9B-B508-9B4E6748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C99-230A-4E58-82C1-04FD4E39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F59A4-9DC6-48D7-8805-EEDC4961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754BB8-7A4B-4AAD-B559-72C2DA74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D32D22-31DF-4E4A-92DE-089FA807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5A3568-2DB4-49C8-9D25-4E0DAAD7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C7533F-FAB2-48C2-BE5A-AB3B1B57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416EC2-5AF0-44C0-AC19-B3EA52B7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D68211-532A-4ECF-86D0-D643C79B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00151A-547C-40A5-A290-EA9ABB28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5E111E-EB03-4DFF-B8A6-96ED0189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CC3B93-05E7-438C-95F6-CBE87ACC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969574-5D66-43E1-A05C-4EC3C765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53641-B329-4BDE-8F5E-277C8957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62E3E2-4D41-409B-9CCF-5125CF2C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B06E8C-692A-41D0-9D56-18FD3716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E8614B-4F5C-4AFC-AB0B-C438DEAE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BFC47D-A9E0-4519-8225-B53019E6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8278BA-1423-42F8-B22A-4E72CA73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444B15-3F1A-415C-B68D-EED4E7E7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378ADE-2007-44D9-BD8E-C255B82A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DA1228-236D-4754-B3D2-EFD7531B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C6DE1E-0396-4654-B567-26858864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DE5413-4E9F-4D60-AFD8-0CC3E8F6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9FB83-55CA-4202-9B0A-567FCE96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828DD9-20D4-4F08-80C0-8348CAE4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DBFF73-D070-478D-97E5-145F2B61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C3184E-9AA6-4C98-87A4-2578EDAA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4900D8-5F93-45D9-B6A3-4A5CC1CE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900BAC-5F41-4C89-B9B5-B64A142E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BFDD10-917F-4469-A7BD-48F6AC33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FCF29D-72C2-4259-BDEB-E6025903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FEEA6B-51C1-4958-BDA0-28D60D6F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F544A8-249C-4CDC-BB64-CA78D2AE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51336A-21DE-477F-92E6-42606765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137E0-29B7-4A21-9508-0D6A916B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2F2932-FD50-4A7B-8EE0-4691EC17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CAC5A6-A60D-4C33-A62F-8F640201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32DDEA-D3B0-4EC9-A63D-C4DF9582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9D259A-E902-4D1A-A850-70A1F6D8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9B93B2-6123-4C87-BC50-E84B6927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2EE09D-7532-4DEB-8A94-5A99EDC6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64394F-3516-4BD9-9040-3D920C59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5000259-4C5D-4F8D-A93C-6E0ECE30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A8BC9E-D3F8-4D1B-B498-27054E78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2915EF-7A8E-4635-866F-58E80CF6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AA853-693F-43AE-86F0-D70E507D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674BA0-4F2C-4040-87D5-61432C0A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5B2180-F1FE-4E33-9E6E-DD46BBF3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BAF12B-A16D-4642-A611-8019DC10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32FED6-FE9C-466D-A51E-10ABFCAB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D73C76-A759-40A4-9A3D-3BEB5D20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4C6DE3-7C2D-492D-98DE-7536310C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36F0B3-81B2-4AB1-AB25-9650E6E2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DDF7A4-A8B8-4A5B-B93B-CB073C0E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AE512C-9F4D-432F-8CA4-6527D5E5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4892F7-5638-4E82-847D-0213D122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C64DF-747D-44D6-8240-E1359B46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F18AAD-ABA1-442E-A09E-015F9446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D0C5F1-171E-47B5-B675-4A0A5FC5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030ABE-9631-49E0-A698-EFAE94C7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B6C406-D18D-468C-98C1-28E02E20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2B0F85-CB15-46AC-A929-994682DC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3A661A-981D-4416-86D2-0E74CFEF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64AE6E-C404-4ED9-A9CD-EEAA4018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9285B9-588F-4D70-A490-324FC422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E5D684-D5F8-4D73-A84D-7CBC5FD3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D0770E-0702-4748-B4AA-9C9BC35E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E169D-1CDF-46DF-B275-385CC0F9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00719D-33B5-494B-84D1-070D0D34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04ABE9-92C2-410B-ACD2-74C0236E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B4381B-0BB5-4BC4-B73A-63919785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84C4D7-959E-432A-85DC-39608D6D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C3B113-F02B-4DB6-9D04-79ADE446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5FB032-5B15-4D50-9EDF-E206BF72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B45718-F773-41E2-87D9-70559C74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27534B-0FE7-444F-934F-12EE606B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D1F913-6AAD-499B-963C-71F9F2B1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336B37-5A5F-4290-B97F-F9124AF2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CE9F9-96D0-43F3-9593-C90E1C49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F32701-ED07-4C16-9690-CD31C660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698F5F-4E95-4946-8FB5-70410524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809F53-7EE8-4631-BEE6-2F9CDAD3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DCAAEBC-D1CD-4C41-8384-B1108355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25AF562-F4E4-43E2-83AA-6A611F99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8AEB5E-6B94-41DD-9274-0E92FAB9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579D025-8557-4D84-8BE1-A2098AF9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54B1BF3-BCC3-4645-A767-4347A027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49B2DF8-3A25-4C83-9488-3EC07C74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C8CB8F6-7BC5-4894-B945-E502BB58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07199-8BF8-43E6-B9E9-4F09F0B5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039100C-9240-4B5C-9FE5-F7F3B276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5AA3666-F131-4B25-AB81-52A8E095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A1DA396-E613-4601-9B58-4EFA99B7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0A0FEA2-F296-4BFD-BD2D-028715D4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2D8A7ED-020D-434F-9123-79996D04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2CD4579-2722-4921-813A-8A37CECA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71FDF4C-F0D8-4E77-A08F-A9B1AE6E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508FCCB-C0F9-4230-A5EB-33B2EA2A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C03A789-9999-4BA3-81A8-A35CB543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177A4F1-3929-40AC-BB98-86373AFD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8E6ED-2680-4FD1-A0F2-870CED9A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484822C-2A99-4931-A39E-F833A7F4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2EAA573-398B-4902-9686-877F393B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33D1A13-9EF6-43F8-8E26-7C977BE4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4FC4D61-FBC4-4BF2-ACFF-C9DB93F8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0AFA085-0BA4-4696-94D8-C6F25715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75DEED7-DE9B-488F-AFA4-48A2328C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928C2A6-3856-4F18-9074-42CF2163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CC8991-2B8F-4092-9BA2-A5CA6294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A045124-F8A8-4899-AB34-B79EE717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256FF1B-C891-4B88-9852-F57B4E9C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006-A5C0-4991-A198-3B95E574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EB5CE-3716-4D97-960F-4B960AC6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AE9054F-0FEC-4F2E-8E1B-9C445DDB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60C7F15-BF7E-4F94-9443-330C6667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BD147E2-7DA5-46DC-B50E-C8A3EF57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F2C86CC-E5D0-434B-9599-2CDD737B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96C4C5-420B-47FE-A8F7-58175FE1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E652956-A5B8-42AB-9E4E-D221A7C6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109E85-F0EC-4CE3-9727-90350246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5B49051-6A29-468A-AB2D-417CC042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6D59B6B-076D-43CD-B6CC-1288C277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FC0EBCE-D246-46F8-9BD6-B4BC9E13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D2CF1-1F1C-42E9-BA01-91B02AE1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38D691-9713-4A78-83CD-50F25C1F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CFF7AD5-C23F-45F2-9F6C-D72A1BA1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F9481CA-EDAF-48EA-843C-B5AC3743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86EAEB6-008E-433F-AC3C-95310056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1232404-BB9A-412A-A0D9-045AFA91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4B494AB-E466-4334-86E7-E6F47929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C862AB7-9123-4F51-A1D9-E35FE261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4E92B40-8D59-4071-8C2E-08B0B0D2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C12A355-85EB-4888-877E-30F36E3B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FEF922-7F7E-48F4-9392-F47800EC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2B8F0-F145-4DCD-85AE-2795FC91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4DEFE85-6895-4B12-A1BC-C9D6BDA3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1012F55-007A-402A-AD5B-1234BCF9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ABDE1FD-17D8-40F2-AB3B-52BF9722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7D2374-FC4F-4ECE-BC6D-BD4B1E06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9EDC96-881E-48A3-B305-090191B9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A024AB-F579-4E9F-B7C6-F2985B1B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F30E349-F426-4099-92B1-9673EE45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2B835E3-1BCF-4EF8-B6C3-4FF717B6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52C04A6-C726-42C0-ABF1-B825A3D2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2656AD-FE9F-4DE1-978D-CE13CB39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DC271-49A3-4D27-A65B-103A8F6C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5C42CB4-D7A2-4D64-A415-89B27BC6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8EF265C-D292-4D2B-A6E0-0F27C52E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6C94126-1326-422D-B0FE-AF26BB75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89B7673-B37B-47A9-9025-EB280FBD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2A73768-0753-4DB8-8928-5216EFCE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9CF0F2F-79AE-48A9-9EF0-C15ED699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5B3C080-B1A5-4308-B2AC-B4A6CD39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4EEFC83-1F45-4F56-B096-0F12DE9F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C8B35AD-8FC5-4904-A563-A402CE0C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190B9B6-B444-47FC-95AE-6B919A73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F8328-5A8F-4225-8D5F-04C7C2EB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E35FE83-5218-45A7-A1A5-60B0335D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0725CC9-960B-4486-8DA8-CDD8AD9B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1EF298F-312C-46BA-A6AA-7B59E862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3CEF55A-F84B-427C-85B3-7BB3171E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946152B-FBD4-4888-937A-9315E457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30A9C91-1757-4E0F-80BD-B578A9FF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EE36222-E664-43C8-BD94-0FB9F187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3A92134-C9FA-451A-954C-FA313E75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6D7252E-1400-4F9B-A4F5-477C3D91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7E1C90A-FDBB-498E-8B8D-481B032F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14815-B216-4474-9239-0CFA0C11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D1BA7D5-61FF-4B32-A0DE-48B4BE0B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9D754A4-2937-4F4E-A772-F1988660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B808DA6-50A3-4089-BCD7-406C680F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2179E27-5258-4CC4-9563-20E9B01F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676A2D5-88AA-419A-ACE0-2163F8EA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A51FD06-3F24-4EEC-AAC7-930BB83B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F54C1DB-3AE6-40D2-A857-16384639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52DEB85-2111-4EC6-9E4D-FE592BA8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B0A7B24-56F5-40F5-805D-1FC19EBB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372E1A8-DB0C-4CD5-BD6D-16A08B1A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BC695-68E9-4F61-8094-0F200761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29929EF-62CB-46CC-89BE-4DC45C48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014756A-9607-4CA0-939A-2504E96F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968A124-889A-4850-A99F-5BA144F4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6AB7B61-DB70-4B5E-9BC9-C4C968A8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878E912-076D-4266-AD08-EF60287B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A7EA8BD-233E-43D6-A4E5-E2DDAE98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E85C40A-53AC-4596-98A3-A9122C72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75B1087-B3C2-4BD9-A64F-48652625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24FD449-479A-4B7B-83FF-C8779FD7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4DEA924-2294-4725-BC39-81AC60BA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9DAEE-3EF0-44CB-BEBB-EAD70247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099615F-CD24-469B-84C8-4F6F4DEE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504DB53-DC0D-4334-844B-2C5D60E9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D9939B3-5585-4173-8894-F79746EA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C1CA8B1-EB28-44E6-998F-470BA4C9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89799AF-D784-4AFD-AD13-988DE04B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83C227C-A7A2-4CB2-ACB2-13E14931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DA2CF0C-876E-4EEE-8BDF-18CD0DD0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EEC54B9-C7B4-43BB-ACF2-84E183FB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33D79F9-E52E-4CB6-AD57-6F5AECA7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E52B3C8-87C6-4FB1-B59D-2F862B9B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61469-E6A6-450B-8463-8570DD63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A48D44A-798E-4B45-B077-27A4D396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266F82E-3907-4006-9A40-7883713B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5EF68DB-A0C5-4557-8047-6D968613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6D52736-237F-4B26-9ECB-F8C3F6A2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6107472-37A0-450D-8CCE-44605BB9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7E3B909-7702-4530-B5BF-ACAEAC84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738CE02-B479-4FD5-BA6B-CD55604F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58AA63E-8C03-4D52-89A2-897421A1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37957A3-807E-4FA4-9CB9-E1E3AEEB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26DF6EB-FFDF-495D-8F9E-13269321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B5087-8739-43AA-9C77-ACF596C2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F51ED09-B4BB-4087-930A-868F105D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7B538B4-4D69-4882-B8B2-3C6C898C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0309260-C454-45F3-A31E-FBDA29E9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46ADAFC-D554-464F-8C26-F8AB69DC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7AF4C7E-92D7-44E9-8A53-CFB65EBD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E906B93-4411-400C-BA0E-1E5B15A1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3583CFC-2D9D-4939-BE1D-713107B3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EA6523B-64BF-4358-ACAB-31DFF92F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7F7A579-D856-45D9-913D-AD868C46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F158254-9BBB-45EA-AB3A-1BE6AD41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F0C7-6BD3-4321-8206-E6C1659E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B1DC5-9EEA-4C55-AF20-F78C9281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F0D37EF-A59F-4C93-A7C8-77691861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C44B7EF-4DD1-419D-A148-F6CB7CF6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BC6152B-5702-4B57-982D-F82BCE46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A2A9A23-335E-4839-85EA-816087B0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73F994D-A573-458A-A271-F94BC8DB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C7CF618-1564-4506-935D-7B9407EB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EDF29A7-068C-4851-B796-D4F40495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36FEA4C-2B48-47D1-BE57-AFE7797C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4D8A6C9-43BA-45A1-816A-DF8B667C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C103DE2-8D4D-4568-A208-AFFAE59E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332A0-6498-47A1-BE74-24C4829E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D550AC0-02FB-4FB6-BDD1-0A6338BD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F5FB17E-E06E-4974-A4B8-1114C01E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C32A937-8D98-44D8-B1FC-8516B0A7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13D832E-E213-4A10-B554-63435555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A19D059-9246-4215-895F-E491100E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9F0B834-36CF-4768-B82E-87355AC3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2FC6697-6650-4247-88C5-3037D5DB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157ED4F-C46E-4D7E-8376-D79D3C83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3A5F9C7-55D8-4F15-900C-E1AB9542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F827A54-90F9-421D-BDC5-AD938E0B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1AE20-CA38-4200-8C4B-01F5376A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3342E48-49DC-4922-945B-2883BC72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3DDF134-61A5-49F2-9C47-ABEDDB3E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3C0A37F-C646-415D-AA9D-FA2D6DDA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1B47C67-9015-46F8-94A1-94974A86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3B46016-361E-4C1C-8888-EBA5042E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93B0A0B-6AEC-47A8-BF6A-200AA719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143649D-71E3-4852-810A-CB5D7220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F70BC54-F34C-41BA-A46C-20178E04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125D4AD-564F-4349-9B37-CA904B32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B6E8A39-B006-47EE-B64E-E2183EDA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914EB-9FAF-4406-B98E-B44ACC38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6575ECF-19B3-40E5-86CE-95EFBA95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5B5426A-C0A3-41F7-8732-8122744A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47EA874-D289-49D0-8837-B12F3ADC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E4F61C4-E79B-4AF4-8343-16F67987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723C0F9-DED8-4B2F-929D-9AD01D8D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4A4E48B-8DB7-4232-83F9-F8698889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FC7D556-F339-474B-B951-3F20408B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19BA76B-0050-43AF-A60E-F0A6ACB9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913BB8E-E1A0-475F-9441-F6F3C449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00AC84B-6EDB-44D6-A764-A070A984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94D37-2A0E-4100-9EE7-130759FB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B46C462-BD50-457E-808A-72AD038D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24F56BF-B490-4CD9-9849-1425A026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7CBC2B3-4562-48CB-9E79-B7E5309A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86CBA73-B3DC-4B2B-B9D0-E7AE4CF4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B381878-E6AD-42DE-8A7C-6F5E2FE7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BF5C7C7-5E4F-4A40-AA9C-6803237F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E9E248B-5735-4EBF-A8D1-F9632923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DB51260-3CD8-4E58-8582-01D2BC8F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C838A8D-D94E-4C32-A77E-E0F0E788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0075889-872D-4A64-8E5F-342CABD2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3B6D8-0881-40E8-AD48-9CBD5EF1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76436C2-1736-4528-ADE9-B4612DD8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9B5C482-AE41-4456-9F37-D82EB174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6D0C6A4-D08E-4159-A4DE-936D3E8F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29A323B-0468-4213-8F31-22AAB439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A88DE96-B7EE-49E7-B526-2FB6AD46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131DB3D-091E-4EB2-88F9-21904A62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8C57036-1755-4EB5-BFB0-6D330CF8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CDB128F-4003-4F91-B30E-0BE1349E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AB60842-8209-43BC-82F9-F3495687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7174098-0560-46F2-9E54-5EA941E2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951F4-591C-428D-AEC1-AF6D2DC8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1EC6022-DFB0-4158-9AF6-75D3B514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16B2423-17B2-46D1-9F05-8178A1E7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80CA5C7-886D-4685-A7EF-92CC84E7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A1780F3-9442-49AC-A768-0170C002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5846C57-7667-4289-B397-861D5C9D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A613AE3-029E-4F31-B1EF-370F5E6E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52B017C-9AD1-4531-9A47-93652898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03AB881-B201-43B2-A13B-3707698F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D63464B-6ACF-478B-AAB2-28BEA9CC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2E77C6D-1B82-4371-BDDE-5547577A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1CBC7-DDB9-4F32-A424-2872FC6A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B14A2D9-D174-4464-AC00-DC748DD5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74F61FD-3268-4763-8C85-86B87F46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CB437AC-A2D4-447C-8225-EBCE2AC1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CADC62D-0996-4960-8AF8-90222BE1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7C53F11-1C73-485E-9A5C-BC0A4DD1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0C8A8EA-2AF9-458F-8BE2-F6651D93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A38B989-BF4A-40C0-8542-60F3FE72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E7007F8-824B-4DFF-A2EB-90E96FBC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A24388E-D0E1-4F6A-824F-7D698B82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405D4DB-E633-4B5F-B32B-01574349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76968-AAF1-4EE4-9ACC-E54EFC42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2365A6C-100B-4931-962D-BB816D6E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1D67E80-28C9-4B9C-9022-6B10E633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5D8CE1D-3634-4B75-AB57-7F362CA3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965BE64-8CEA-4287-BB31-725F8A0F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29276C6-4333-401D-A362-F8007317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9AD0DB4-2928-4297-99A4-82FA367E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FA7D604-1AC3-45EB-B54F-09858758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DC5D52D-300B-49C3-B87C-0507B343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7EC8900-F7E5-4CE0-8E4D-68DB0EB1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5400519-777B-4AFD-AE30-CB714359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B4A1A-888D-4725-B60D-F06E84F6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F61777D-3554-4B51-B04F-38E29D47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7B3AC12-D9C1-4CD5-87DF-1D4CD7DA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D8C6D1F-CFAF-4B34-8BD9-28FD7722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5E41BDF-EEE6-4965-AFC2-DAD5D116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4213319-C616-41C5-9133-77F818EF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37A3627-6624-4D2C-BF09-059026FB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E419698-F74A-451B-B5FE-6FA1A757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5D68CF1-CBE1-4C1E-92C7-C28E469E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449686F-B558-4741-8DAA-DF6B4AF8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F449791-9DFC-4A57-8B97-4B5C415B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ADF6-0426-445C-B974-74CAB8E6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EA4B0-D2C0-404E-B347-FBC1AD13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A351AA5-AF05-4C9B-8859-FE308589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BB3B2-27EA-40DF-B832-E78BBFFE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91947-79F1-42C1-BEBB-DF0D0FA4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DEBE4-59AF-4126-A8F9-4BA5A20C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9FA5B-E0D9-49E2-9E2E-489621F9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44825-4F65-4930-AF1A-84D34F6F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FDD03-9BD5-40C1-8FC5-2421C7F6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E123F-50FF-43DE-88AE-12DF88A6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A0FDF-D021-46CB-A808-27DA35D4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3F296-F9BE-40A1-8713-F4D46C5F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DE12-7B3D-4F66-809B-23143183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6B9C4-1C2D-4F2B-9ED3-EAB676AE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657DF-2DD2-4C7D-BA5D-21C8AAFD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ADCBB-A5C7-464F-A675-36DE7D4F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F82E9-506C-410D-BE48-52A61726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ED24B-C25B-450F-BADA-7803BC88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78F8A-8C2D-42FD-B855-01F3E15A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4C057-7468-469F-8DEA-EF1D275B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5A58F-0673-4915-90E9-4333AA1C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2EAE5-1569-459A-B048-A04C0AD3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90BE6-524B-478C-911F-362BA38C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D44-4B73-421C-89A6-7E547F00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DB359-A924-4871-9DE2-A749AD3A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A5E0D-D0E6-4845-8B8F-3894DE7D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BBA16-F0A3-41CF-9B61-45E1DFAA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F44CA-91D5-464C-BF83-F7D2E87E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CC8F5-FF9F-4D65-8774-BFDA9C80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3B191-929A-4A7B-AE36-0B342C03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56437-5004-4032-BF56-8B125AEE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EF5B7-4EED-4B05-8E7E-E05419D1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340FA-7908-44A4-8D4E-53167BA0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0D398-136A-4E4D-B07B-72ABFD24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7E59-5A0B-4B8C-B067-8A43C884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674B8-8C65-4D29-B470-36772BD3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DDD32-95F9-49E0-9AC6-50926AC9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9B749-927E-42C0-8B44-5D90D460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D85F5-F142-485D-8A72-FA2306B5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A41ED-FEED-4188-850D-0742E629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1F550-9224-4D8C-93D8-8AB4DCB7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1242B-A562-4AA2-A592-C928C009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BCBC7-908C-4B11-9141-0A5F06F91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DFF7E-9D38-420D-A1E4-729BC4B9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3E55B-EF3D-45A8-B6B1-BCB1F633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89.xml"/><Relationship Id="rId8" Type="http://schemas.openxmlformats.org/officeDocument/2006/relationships/slideLayout" Target="../slideLayouts/slideLayout290.xml"/><Relationship Id="rId9" Type="http://schemas.openxmlformats.org/officeDocument/2006/relationships/slideLayout" Target="../slideLayouts/slideLayout291.xml"/><Relationship Id="rId10" Type="http://schemas.openxmlformats.org/officeDocument/2006/relationships/slideLayout" Target="../slideLayouts/slideLayout292.xml"/><Relationship Id="rId11" Type="http://schemas.openxmlformats.org/officeDocument/2006/relationships/slideLayout" Target="../slideLayouts/slideLayout293.xml"/><Relationship Id="rId12" Type="http://schemas.openxmlformats.org/officeDocument/2006/relationships/slideLayout" Target="../slideLayouts/slideLayout294.xml"/><Relationship Id="rId13" Type="http://schemas.openxmlformats.org/officeDocument/2006/relationships/slideLayout" Target="../slideLayouts/slideLayout295.xml"/><Relationship Id="rId14" Type="http://schemas.openxmlformats.org/officeDocument/2006/relationships/slideLayout" Target="../slideLayouts/slideLayout296.xml"/><Relationship Id="rId15" Type="http://schemas.openxmlformats.org/officeDocument/2006/relationships/slideLayout" Target="../slideLayouts/slideLayout297.xml"/><Relationship Id="rId16" Type="http://schemas.openxmlformats.org/officeDocument/2006/relationships/slideLayout" Target="../slideLayouts/slideLayout298.xml"/><Relationship Id="rId17" Type="http://schemas.openxmlformats.org/officeDocument/2006/relationships/slideLayout" Target="../slideLayouts/slideLayout299.xml"/><Relationship Id="rId18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01.xml"/><Relationship Id="rId8" Type="http://schemas.openxmlformats.org/officeDocument/2006/relationships/slideLayout" Target="../slideLayouts/slideLayout302.xml"/><Relationship Id="rId9" Type="http://schemas.openxmlformats.org/officeDocument/2006/relationships/slideLayout" Target="../slideLayouts/slideLayout303.xml"/><Relationship Id="rId10" Type="http://schemas.openxmlformats.org/officeDocument/2006/relationships/slideLayout" Target="../slideLayouts/slideLayout304.xml"/><Relationship Id="rId11" Type="http://schemas.openxmlformats.org/officeDocument/2006/relationships/slideLayout" Target="../slideLayouts/slideLayout305.xml"/><Relationship Id="rId12" Type="http://schemas.openxmlformats.org/officeDocument/2006/relationships/slideLayout" Target="../slideLayouts/slideLayout306.xml"/><Relationship Id="rId13" Type="http://schemas.openxmlformats.org/officeDocument/2006/relationships/slideLayout" Target="../slideLayouts/slideLayout307.xml"/><Relationship Id="rId14" Type="http://schemas.openxmlformats.org/officeDocument/2006/relationships/slideLayout" Target="../slideLayouts/slideLayout308.xml"/><Relationship Id="rId15" Type="http://schemas.openxmlformats.org/officeDocument/2006/relationships/slideLayout" Target="../slideLayouts/slideLayout309.xml"/><Relationship Id="rId16" Type="http://schemas.openxmlformats.org/officeDocument/2006/relationships/slideLayout" Target="../slideLayouts/slideLayout310.xml"/><Relationship Id="rId17" Type="http://schemas.openxmlformats.org/officeDocument/2006/relationships/slideLayout" Target="../slideLayouts/slideLayout311.xml"/><Relationship Id="rId18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13.xml"/><Relationship Id="rId8" Type="http://schemas.openxmlformats.org/officeDocument/2006/relationships/slideLayout" Target="../slideLayouts/slideLayout314.xml"/><Relationship Id="rId9" Type="http://schemas.openxmlformats.org/officeDocument/2006/relationships/slideLayout" Target="../slideLayouts/slideLayout315.xml"/><Relationship Id="rId10" Type="http://schemas.openxmlformats.org/officeDocument/2006/relationships/slideLayout" Target="../slideLayouts/slideLayout316.xml"/><Relationship Id="rId11" Type="http://schemas.openxmlformats.org/officeDocument/2006/relationships/slideLayout" Target="../slideLayouts/slideLayout317.xml"/><Relationship Id="rId12" Type="http://schemas.openxmlformats.org/officeDocument/2006/relationships/slideLayout" Target="../slideLayouts/slideLayout318.xml"/><Relationship Id="rId13" Type="http://schemas.openxmlformats.org/officeDocument/2006/relationships/slideLayout" Target="../slideLayouts/slideLayout319.xml"/><Relationship Id="rId14" Type="http://schemas.openxmlformats.org/officeDocument/2006/relationships/slideLayout" Target="../slideLayouts/slideLayout320.xml"/><Relationship Id="rId15" Type="http://schemas.openxmlformats.org/officeDocument/2006/relationships/slideLayout" Target="../slideLayouts/slideLayout321.xml"/><Relationship Id="rId16" Type="http://schemas.openxmlformats.org/officeDocument/2006/relationships/slideLayout" Target="../slideLayouts/slideLayout322.xml"/><Relationship Id="rId17" Type="http://schemas.openxmlformats.org/officeDocument/2006/relationships/slideLayout" Target="../slideLayouts/slideLayout323.xml"/><Relationship Id="rId18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25.xml"/><Relationship Id="rId8" Type="http://schemas.openxmlformats.org/officeDocument/2006/relationships/slideLayout" Target="../slideLayouts/slideLayout326.xml"/><Relationship Id="rId9" Type="http://schemas.openxmlformats.org/officeDocument/2006/relationships/slideLayout" Target="../slideLayouts/slideLayout327.xml"/><Relationship Id="rId10" Type="http://schemas.openxmlformats.org/officeDocument/2006/relationships/slideLayout" Target="../slideLayouts/slideLayout328.xml"/><Relationship Id="rId11" Type="http://schemas.openxmlformats.org/officeDocument/2006/relationships/slideLayout" Target="../slideLayouts/slideLayout329.xml"/><Relationship Id="rId12" Type="http://schemas.openxmlformats.org/officeDocument/2006/relationships/slideLayout" Target="../slideLayouts/slideLayout330.xml"/><Relationship Id="rId13" Type="http://schemas.openxmlformats.org/officeDocument/2006/relationships/slideLayout" Target="../slideLayouts/slideLayout331.xml"/><Relationship Id="rId14" Type="http://schemas.openxmlformats.org/officeDocument/2006/relationships/slideLayout" Target="../slideLayouts/slideLayout332.xml"/><Relationship Id="rId15" Type="http://schemas.openxmlformats.org/officeDocument/2006/relationships/slideLayout" Target="../slideLayouts/slideLayout333.xml"/><Relationship Id="rId16" Type="http://schemas.openxmlformats.org/officeDocument/2006/relationships/slideLayout" Target="../slideLayouts/slideLayout334.xml"/><Relationship Id="rId17" Type="http://schemas.openxmlformats.org/officeDocument/2006/relationships/slideLayout" Target="../slideLayouts/slideLayout335.xml"/><Relationship Id="rId18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37.xml"/><Relationship Id="rId8" Type="http://schemas.openxmlformats.org/officeDocument/2006/relationships/slideLayout" Target="../slideLayouts/slideLayout338.xml"/><Relationship Id="rId9" Type="http://schemas.openxmlformats.org/officeDocument/2006/relationships/slideLayout" Target="../slideLayouts/slideLayout339.xml"/><Relationship Id="rId10" Type="http://schemas.openxmlformats.org/officeDocument/2006/relationships/slideLayout" Target="../slideLayouts/slideLayout340.xml"/><Relationship Id="rId11" Type="http://schemas.openxmlformats.org/officeDocument/2006/relationships/slideLayout" Target="../slideLayouts/slideLayout341.xml"/><Relationship Id="rId12" Type="http://schemas.openxmlformats.org/officeDocument/2006/relationships/slideLayout" Target="../slideLayouts/slideLayout342.xml"/><Relationship Id="rId13" Type="http://schemas.openxmlformats.org/officeDocument/2006/relationships/slideLayout" Target="../slideLayouts/slideLayout343.xml"/><Relationship Id="rId14" Type="http://schemas.openxmlformats.org/officeDocument/2006/relationships/slideLayout" Target="../slideLayouts/slideLayout344.xml"/><Relationship Id="rId15" Type="http://schemas.openxmlformats.org/officeDocument/2006/relationships/slideLayout" Target="../slideLayouts/slideLayout345.xml"/><Relationship Id="rId16" Type="http://schemas.openxmlformats.org/officeDocument/2006/relationships/slideLayout" Target="../slideLayouts/slideLayout346.xml"/><Relationship Id="rId17" Type="http://schemas.openxmlformats.org/officeDocument/2006/relationships/slideLayout" Target="../slideLayouts/slideLayout347.xml"/><Relationship Id="rId18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49.xml"/><Relationship Id="rId8" Type="http://schemas.openxmlformats.org/officeDocument/2006/relationships/slideLayout" Target="../slideLayouts/slideLayout350.xml"/><Relationship Id="rId9" Type="http://schemas.openxmlformats.org/officeDocument/2006/relationships/slideLayout" Target="../slideLayouts/slideLayout351.xml"/><Relationship Id="rId10" Type="http://schemas.openxmlformats.org/officeDocument/2006/relationships/slideLayout" Target="../slideLayouts/slideLayout352.xml"/><Relationship Id="rId11" Type="http://schemas.openxmlformats.org/officeDocument/2006/relationships/slideLayout" Target="../slideLayouts/slideLayout353.xml"/><Relationship Id="rId12" Type="http://schemas.openxmlformats.org/officeDocument/2006/relationships/slideLayout" Target="../slideLayouts/slideLayout354.xml"/><Relationship Id="rId13" Type="http://schemas.openxmlformats.org/officeDocument/2006/relationships/slideLayout" Target="../slideLayouts/slideLayout355.xml"/><Relationship Id="rId14" Type="http://schemas.openxmlformats.org/officeDocument/2006/relationships/slideLayout" Target="../slideLayouts/slideLayout356.xml"/><Relationship Id="rId15" Type="http://schemas.openxmlformats.org/officeDocument/2006/relationships/slideLayout" Target="../slideLayouts/slideLayout357.xml"/><Relationship Id="rId16" Type="http://schemas.openxmlformats.org/officeDocument/2006/relationships/slideLayout" Target="../slideLayouts/slideLayout358.xml"/><Relationship Id="rId17" Type="http://schemas.openxmlformats.org/officeDocument/2006/relationships/slideLayout" Target="../slideLayouts/slideLayout359.xml"/><Relationship Id="rId18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61.xml"/><Relationship Id="rId8" Type="http://schemas.openxmlformats.org/officeDocument/2006/relationships/slideLayout" Target="../slideLayouts/slideLayout362.xml"/><Relationship Id="rId9" Type="http://schemas.openxmlformats.org/officeDocument/2006/relationships/slideLayout" Target="../slideLayouts/slideLayout363.xml"/><Relationship Id="rId10" Type="http://schemas.openxmlformats.org/officeDocument/2006/relationships/slideLayout" Target="../slideLayouts/slideLayout364.xml"/><Relationship Id="rId11" Type="http://schemas.openxmlformats.org/officeDocument/2006/relationships/slideLayout" Target="../slideLayouts/slideLayout365.xml"/><Relationship Id="rId12" Type="http://schemas.openxmlformats.org/officeDocument/2006/relationships/slideLayout" Target="../slideLayouts/slideLayout366.xml"/><Relationship Id="rId13" Type="http://schemas.openxmlformats.org/officeDocument/2006/relationships/slideLayout" Target="../slideLayouts/slideLayout367.xml"/><Relationship Id="rId14" Type="http://schemas.openxmlformats.org/officeDocument/2006/relationships/slideLayout" Target="../slideLayouts/slideLayout368.xml"/><Relationship Id="rId15" Type="http://schemas.openxmlformats.org/officeDocument/2006/relationships/slideLayout" Target="../slideLayouts/slideLayout369.xml"/><Relationship Id="rId16" Type="http://schemas.openxmlformats.org/officeDocument/2006/relationships/slideLayout" Target="../slideLayouts/slideLayout370.xml"/><Relationship Id="rId17" Type="http://schemas.openxmlformats.org/officeDocument/2006/relationships/slideLayout" Target="../slideLayouts/slideLayout371.xml"/><Relationship Id="rId18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3.xml"/><Relationship Id="rId8" Type="http://schemas.openxmlformats.org/officeDocument/2006/relationships/slideLayout" Target="../slideLayouts/slideLayout374.xml"/><Relationship Id="rId9" Type="http://schemas.openxmlformats.org/officeDocument/2006/relationships/slideLayout" Target="../slideLayouts/slideLayout375.xml"/><Relationship Id="rId10" Type="http://schemas.openxmlformats.org/officeDocument/2006/relationships/slideLayout" Target="../slideLayouts/slideLayout376.xml"/><Relationship Id="rId11" Type="http://schemas.openxmlformats.org/officeDocument/2006/relationships/slideLayout" Target="../slideLayouts/slideLayout377.xml"/><Relationship Id="rId12" Type="http://schemas.openxmlformats.org/officeDocument/2006/relationships/slideLayout" Target="../slideLayouts/slideLayout378.xml"/><Relationship Id="rId13" Type="http://schemas.openxmlformats.org/officeDocument/2006/relationships/slideLayout" Target="../slideLayouts/slideLayout379.xml"/><Relationship Id="rId14" Type="http://schemas.openxmlformats.org/officeDocument/2006/relationships/slideLayout" Target="../slideLayouts/slideLayout380.xml"/><Relationship Id="rId15" Type="http://schemas.openxmlformats.org/officeDocument/2006/relationships/slideLayout" Target="../slideLayouts/slideLayout381.xml"/><Relationship Id="rId16" Type="http://schemas.openxmlformats.org/officeDocument/2006/relationships/slideLayout" Target="../slideLayouts/slideLayout382.xml"/><Relationship Id="rId17" Type="http://schemas.openxmlformats.org/officeDocument/2006/relationships/slideLayout" Target="../slideLayouts/slideLayout383.xml"/><Relationship Id="rId18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85.xml"/><Relationship Id="rId8" Type="http://schemas.openxmlformats.org/officeDocument/2006/relationships/slideLayout" Target="../slideLayouts/slideLayout386.xml"/><Relationship Id="rId9" Type="http://schemas.openxmlformats.org/officeDocument/2006/relationships/slideLayout" Target="../slideLayouts/slideLayout387.xml"/><Relationship Id="rId10" Type="http://schemas.openxmlformats.org/officeDocument/2006/relationships/slideLayout" Target="../slideLayouts/slideLayout388.xml"/><Relationship Id="rId11" Type="http://schemas.openxmlformats.org/officeDocument/2006/relationships/slideLayout" Target="../slideLayouts/slideLayout389.xml"/><Relationship Id="rId12" Type="http://schemas.openxmlformats.org/officeDocument/2006/relationships/slideLayout" Target="../slideLayouts/slideLayout390.xml"/><Relationship Id="rId13" Type="http://schemas.openxmlformats.org/officeDocument/2006/relationships/slideLayout" Target="../slideLayouts/slideLayout391.xml"/><Relationship Id="rId14" Type="http://schemas.openxmlformats.org/officeDocument/2006/relationships/slideLayout" Target="../slideLayouts/slideLayout392.xml"/><Relationship Id="rId15" Type="http://schemas.openxmlformats.org/officeDocument/2006/relationships/slideLayout" Target="../slideLayouts/slideLayout393.xml"/><Relationship Id="rId16" Type="http://schemas.openxmlformats.org/officeDocument/2006/relationships/slideLayout" Target="../slideLayouts/slideLayout394.xml"/><Relationship Id="rId17" Type="http://schemas.openxmlformats.org/officeDocument/2006/relationships/slideLayout" Target="../slideLayouts/slideLayout395.xml"/><Relationship Id="rId18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97.xml"/><Relationship Id="rId8" Type="http://schemas.openxmlformats.org/officeDocument/2006/relationships/slideLayout" Target="../slideLayouts/slideLayout398.xml"/><Relationship Id="rId9" Type="http://schemas.openxmlformats.org/officeDocument/2006/relationships/slideLayout" Target="../slideLayouts/slideLayout399.xml"/><Relationship Id="rId10" Type="http://schemas.openxmlformats.org/officeDocument/2006/relationships/slideLayout" Target="../slideLayouts/slideLayout400.xml"/><Relationship Id="rId11" Type="http://schemas.openxmlformats.org/officeDocument/2006/relationships/slideLayout" Target="../slideLayouts/slideLayout401.xml"/><Relationship Id="rId12" Type="http://schemas.openxmlformats.org/officeDocument/2006/relationships/slideLayout" Target="../slideLayouts/slideLayout402.xml"/><Relationship Id="rId13" Type="http://schemas.openxmlformats.org/officeDocument/2006/relationships/slideLayout" Target="../slideLayouts/slideLayout403.xml"/><Relationship Id="rId14" Type="http://schemas.openxmlformats.org/officeDocument/2006/relationships/slideLayout" Target="../slideLayouts/slideLayout404.xml"/><Relationship Id="rId15" Type="http://schemas.openxmlformats.org/officeDocument/2006/relationships/slideLayout" Target="../slideLayouts/slideLayout405.xml"/><Relationship Id="rId16" Type="http://schemas.openxmlformats.org/officeDocument/2006/relationships/slideLayout" Target="../slideLayouts/slideLayout406.xml"/><Relationship Id="rId17" Type="http://schemas.openxmlformats.org/officeDocument/2006/relationships/slideLayout" Target="../slideLayouts/slideLayout407.xml"/><Relationship Id="rId18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09.xml"/><Relationship Id="rId8" Type="http://schemas.openxmlformats.org/officeDocument/2006/relationships/slideLayout" Target="../slideLayouts/slideLayout410.xml"/><Relationship Id="rId9" Type="http://schemas.openxmlformats.org/officeDocument/2006/relationships/slideLayout" Target="../slideLayouts/slideLayout411.xml"/><Relationship Id="rId10" Type="http://schemas.openxmlformats.org/officeDocument/2006/relationships/slideLayout" Target="../slideLayouts/slideLayout412.xml"/><Relationship Id="rId11" Type="http://schemas.openxmlformats.org/officeDocument/2006/relationships/slideLayout" Target="../slideLayouts/slideLayout413.xml"/><Relationship Id="rId12" Type="http://schemas.openxmlformats.org/officeDocument/2006/relationships/slideLayout" Target="../slideLayouts/slideLayout414.xml"/><Relationship Id="rId13" Type="http://schemas.openxmlformats.org/officeDocument/2006/relationships/slideLayout" Target="../slideLayouts/slideLayout415.xml"/><Relationship Id="rId14" Type="http://schemas.openxmlformats.org/officeDocument/2006/relationships/slideLayout" Target="../slideLayouts/slideLayout416.xml"/><Relationship Id="rId15" Type="http://schemas.openxmlformats.org/officeDocument/2006/relationships/slideLayout" Target="../slideLayouts/slideLayout417.xml"/><Relationship Id="rId16" Type="http://schemas.openxmlformats.org/officeDocument/2006/relationships/slideLayout" Target="../slideLayouts/slideLayout418.xml"/><Relationship Id="rId17" Type="http://schemas.openxmlformats.org/officeDocument/2006/relationships/slideLayout" Target="../slideLayouts/slideLayout419.xml"/><Relationship Id="rId18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21.xml"/><Relationship Id="rId8" Type="http://schemas.openxmlformats.org/officeDocument/2006/relationships/slideLayout" Target="../slideLayouts/slideLayout422.xml"/><Relationship Id="rId9" Type="http://schemas.openxmlformats.org/officeDocument/2006/relationships/slideLayout" Target="../slideLayouts/slideLayout423.xml"/><Relationship Id="rId10" Type="http://schemas.openxmlformats.org/officeDocument/2006/relationships/slideLayout" Target="../slideLayouts/slideLayout424.xml"/><Relationship Id="rId11" Type="http://schemas.openxmlformats.org/officeDocument/2006/relationships/slideLayout" Target="../slideLayouts/slideLayout425.xml"/><Relationship Id="rId12" Type="http://schemas.openxmlformats.org/officeDocument/2006/relationships/slideLayout" Target="../slideLayouts/slideLayout426.xml"/><Relationship Id="rId13" Type="http://schemas.openxmlformats.org/officeDocument/2006/relationships/slideLayout" Target="../slideLayouts/slideLayout427.xml"/><Relationship Id="rId14" Type="http://schemas.openxmlformats.org/officeDocument/2006/relationships/slideLayout" Target="../slideLayouts/slideLayout428.xml"/><Relationship Id="rId15" Type="http://schemas.openxmlformats.org/officeDocument/2006/relationships/slideLayout" Target="../slideLayouts/slideLayout429.xml"/><Relationship Id="rId16" Type="http://schemas.openxmlformats.org/officeDocument/2006/relationships/slideLayout" Target="../slideLayouts/slideLayout430.xml"/><Relationship Id="rId17" Type="http://schemas.openxmlformats.org/officeDocument/2006/relationships/slideLayout" Target="../slideLayouts/slideLayout431.xml"/><Relationship Id="rId18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33.xml"/><Relationship Id="rId8" Type="http://schemas.openxmlformats.org/officeDocument/2006/relationships/slideLayout" Target="../slideLayouts/slideLayout434.xml"/><Relationship Id="rId9" Type="http://schemas.openxmlformats.org/officeDocument/2006/relationships/slideLayout" Target="../slideLayouts/slideLayout435.xml"/><Relationship Id="rId10" Type="http://schemas.openxmlformats.org/officeDocument/2006/relationships/slideLayout" Target="../slideLayouts/slideLayout436.xml"/><Relationship Id="rId11" Type="http://schemas.openxmlformats.org/officeDocument/2006/relationships/slideLayout" Target="../slideLayouts/slideLayout437.xml"/><Relationship Id="rId12" Type="http://schemas.openxmlformats.org/officeDocument/2006/relationships/slideLayout" Target="../slideLayouts/slideLayout438.xml"/><Relationship Id="rId13" Type="http://schemas.openxmlformats.org/officeDocument/2006/relationships/slideLayout" Target="../slideLayouts/slideLayout439.xml"/><Relationship Id="rId14" Type="http://schemas.openxmlformats.org/officeDocument/2006/relationships/slideLayout" Target="../slideLayouts/slideLayout440.xml"/><Relationship Id="rId15" Type="http://schemas.openxmlformats.org/officeDocument/2006/relationships/slideLayout" Target="../slideLayouts/slideLayout441.xml"/><Relationship Id="rId16" Type="http://schemas.openxmlformats.org/officeDocument/2006/relationships/slideLayout" Target="../slideLayouts/slideLayout442.xml"/><Relationship Id="rId17" Type="http://schemas.openxmlformats.org/officeDocument/2006/relationships/slideLayout" Target="../slideLayouts/slideLayout443.xml"/><Relationship Id="rId18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文本框 1029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0D8B-2DA0-4169-B336-AD710011E28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4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4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44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文本框 10245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4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460F-84C7-4206-9E75-5731F95F5CB2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9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2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49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文本框 11269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9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7" name="Straight Connector 15"/>
          <p:cNvSpPr/>
          <p:nvPr/>
        </p:nvSpPr>
        <p:spPr>
          <a:xfrm>
            <a:off x="1278000" y="2913120"/>
            <a:ext cx="23335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AED5-6F3F-4CAC-ACEA-527983898299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540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542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文本框 12293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4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4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5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6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B4B2-5077-4EC5-8151-973968D75E6B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588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9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59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文本框 13317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92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3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3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FC46-E9EF-4C79-B874-6BCC9A73EAF6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636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7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638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9" name="文本框 14341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40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2" name="Straight Connector 14"/>
          <p:cNvSpPr/>
          <p:nvPr/>
        </p:nvSpPr>
        <p:spPr>
          <a:xfrm>
            <a:off x="1278000" y="414036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4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4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4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346B-6EA9-44C2-AB2F-236F73032F1D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685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6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687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文本框 15365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89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1" name="TextBox 13"/>
          <p:cNvSpPr/>
          <p:nvPr/>
        </p:nvSpPr>
        <p:spPr>
          <a:xfrm>
            <a:off x="849240" y="9050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Box 14"/>
          <p:cNvSpPr/>
          <p:nvPr/>
        </p:nvSpPr>
        <p:spPr>
          <a:xfrm>
            <a:off x="7634160" y="28274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traight Connector 18"/>
          <p:cNvSpPr/>
          <p:nvPr/>
        </p:nvSpPr>
        <p:spPr>
          <a:xfrm>
            <a:off x="1278000" y="414036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43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44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45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90AC-D1E1-435C-8D06-B500AE4ACB90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736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738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9" name="文本框 16389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40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6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7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8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96A4-E6EC-4B87-98F3-5890D9895C96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784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5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786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7" name="文本框 17413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88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0" name="TextBox 11"/>
          <p:cNvSpPr/>
          <p:nvPr/>
        </p:nvSpPr>
        <p:spPr>
          <a:xfrm>
            <a:off x="878040" y="8967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12"/>
          <p:cNvSpPr/>
          <p:nvPr/>
        </p:nvSpPr>
        <p:spPr>
          <a:xfrm>
            <a:off x="7650000" y="2608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traight Connector 25"/>
          <p:cNvSpPr/>
          <p:nvPr/>
        </p:nvSpPr>
        <p:spPr>
          <a:xfrm>
            <a:off x="1278000" y="34290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49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50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51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E218-0FD4-430C-A11D-2BD284B49739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835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6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837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文本框 18437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39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1" name="Straight Connector 14"/>
          <p:cNvSpPr/>
          <p:nvPr/>
        </p:nvSpPr>
        <p:spPr>
          <a:xfrm>
            <a:off x="1278000" y="34290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52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53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54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CEFD-1AC8-47B9-BFE7-0510D1BF237D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884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5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886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7" name="文本框 19461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88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0" name="Straight Connector 13"/>
          <p:cNvSpPr/>
          <p:nvPr/>
        </p:nvSpPr>
        <p:spPr>
          <a:xfrm>
            <a:off x="1278000" y="23544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dt" idx="55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 type="ftr" idx="56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 type="sldNum" idx="57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FCBD-96B0-47B6-9963-5A07ACBF922C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9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51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文本框 2053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3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89CC-DF83-4470-8FBB-2BC3EB5F1FF8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93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4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93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6" name="文本框 20485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3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Straight Connector 13"/>
          <p:cNvSpPr/>
          <p:nvPr/>
        </p:nvSpPr>
        <p:spPr>
          <a:xfrm>
            <a:off x="6245280" y="906480"/>
            <a:ext cx="0" cy="496872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58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59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0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C978-9C90-479D-A1B0-9D1B532B3433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2" name="Picture 7" descr="SD-PanelTitle-R1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3" name="Rectangle 10"/>
            <p:cNvGrpSpPr/>
            <p:nvPr/>
          </p:nvGrpSpPr>
          <p:grpSpPr>
            <a:xfrm>
              <a:off x="1505520" y="1505520"/>
              <a:ext cx="6138720" cy="3852720"/>
              <a:chOff x="1505520" y="1505520"/>
              <a:chExt cx="6138720" cy="3852720"/>
            </a:xfrm>
          </p:grpSpPr>
          <p:pic>
            <p:nvPicPr>
              <p:cNvPr id="984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1505520" y="1505520"/>
                <a:ext cx="6138720" cy="385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5" name="文本框 21509"/>
              <p:cNvSpPr/>
              <p:nvPr/>
            </p:nvSpPr>
            <p:spPr>
              <a:xfrm>
                <a:off x="1514880" y="1519920"/>
                <a:ext cx="6112800" cy="38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86" name="Picture 11" descr="HDRibbonTitle-UniformTrim.png"/>
            <p:cNvPicPr/>
            <p:nvPr/>
          </p:nvPicPr>
          <p:blipFill>
            <a:blip r:embed="rId5"/>
            <a:srcRect l="0" t="0" r="47963" b="0"/>
            <a:stretch/>
          </p:blipFill>
          <p:spPr>
            <a:xfrm>
              <a:off x="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7" name="Picture 12" descr="HDRibbonTitle-UniformTrim.png"/>
            <p:cNvPicPr/>
            <p:nvPr/>
          </p:nvPicPr>
          <p:blipFill>
            <a:blip r:embed="rId6"/>
            <a:srcRect l="0" t="0" r="47963" b="0"/>
            <a:stretch/>
          </p:blipFill>
          <p:spPr>
            <a:xfrm>
              <a:off x="748008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8" name="Straight Connector 14"/>
          <p:cNvSpPr/>
          <p:nvPr/>
        </p:nvSpPr>
        <p:spPr>
          <a:xfrm>
            <a:off x="2019240" y="3471840"/>
            <a:ext cx="511344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61"/>
          </p:nvPr>
        </p:nvSpPr>
        <p:spPr>
          <a:xfrm>
            <a:off x="6065640" y="5054760"/>
            <a:ext cx="672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62"/>
          </p:nvPr>
        </p:nvSpPr>
        <p:spPr>
          <a:xfrm>
            <a:off x="1922040" y="5054760"/>
            <a:ext cx="406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63"/>
          </p:nvPr>
        </p:nvSpPr>
        <p:spPr>
          <a:xfrm>
            <a:off x="6816240" y="5054760"/>
            <a:ext cx="414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F11C-4E0C-493C-9592-2EA842173EA3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03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2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03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4" name="文本框 22533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03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7" name="Straight Connector 6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64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65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66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BDE0-BCA5-47AD-87C4-0A5C05886D61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080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1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082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3" name="文本框 23557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084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5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6" name="Straight Connector 30"/>
          <p:cNvSpPr/>
          <p:nvPr/>
        </p:nvSpPr>
        <p:spPr>
          <a:xfrm>
            <a:off x="1278000" y="359892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 type="dt" idx="6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 type="ftr" idx="6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 type="sldNum" idx="6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CBC5-4E83-4BEF-B636-19565D7DB208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129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0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131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文本框 24581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133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5" name="Straight Connector 7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7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7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7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59D3-E929-409F-86AA-CE49867D8724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7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178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9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18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1" name="文本框 25605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182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3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4" name="Straight Connector 40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73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ftr" idx="74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sldNum" idx="75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B574-4CBF-4B42-AE41-201BA86F49E3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7"/>
    <p:sldLayoutId id="2147483962" r:id="rId8"/>
    <p:sldLayoutId id="2147483963" r:id="rId9"/>
    <p:sldLayoutId id="2147483964" r:id="rId10"/>
    <p:sldLayoutId id="2147483965" r:id="rId11"/>
    <p:sldLayoutId id="2147483966" r:id="rId12"/>
    <p:sldLayoutId id="2147483967" r:id="rId13"/>
    <p:sldLayoutId id="2147483968" r:id="rId14"/>
    <p:sldLayoutId id="2147483969" r:id="rId15"/>
    <p:sldLayoutId id="2147483970" r:id="rId16"/>
    <p:sldLayoutId id="2147483971" r:id="rId17"/>
    <p:sldLayoutId id="2147483972" r:id="rId18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227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8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22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0" name="文本框 26629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231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2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3" name="Straight Connector 13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76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77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78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86FC-7FDF-4AFF-AE85-FA25AFECCC34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7"/>
    <p:sldLayoutId id="2147483975" r:id="rId8"/>
    <p:sldLayoutId id="2147483976" r:id="rId9"/>
    <p:sldLayoutId id="2147483977" r:id="rId10"/>
    <p:sldLayoutId id="2147483978" r:id="rId11"/>
    <p:sldLayoutId id="2147483979" r:id="rId12"/>
    <p:sldLayoutId id="2147483980" r:id="rId13"/>
    <p:sldLayoutId id="2147483981" r:id="rId14"/>
    <p:sldLayoutId id="2147483982" r:id="rId15"/>
    <p:sldLayoutId id="2147483983" r:id="rId16"/>
    <p:sldLayoutId id="2147483984" r:id="rId17"/>
    <p:sldLayoutId id="2147483985" r:id="rId18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5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276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7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278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9" name="文本框 27653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280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1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 type="dt" idx="79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 type="ftr" idx="80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 type="sldNum" idx="81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121A-49E6-46C6-9294-4F498960EA3B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7"/>
    <p:sldLayoutId id="2147483988" r:id="rId8"/>
    <p:sldLayoutId id="2147483989" r:id="rId9"/>
    <p:sldLayoutId id="2147483990" r:id="rId10"/>
    <p:sldLayoutId id="2147483991" r:id="rId11"/>
    <p:sldLayoutId id="2147483992" r:id="rId12"/>
    <p:sldLayoutId id="2147483993" r:id="rId13"/>
    <p:sldLayoutId id="2147483994" r:id="rId14"/>
    <p:sldLayoutId id="2147483995" r:id="rId15"/>
    <p:sldLayoutId id="2147483996" r:id="rId16"/>
    <p:sldLayoutId id="2147483997" r:id="rId17"/>
    <p:sldLayoutId id="2147483998" r:id="rId18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3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324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5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326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7" name="文本框 28677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328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9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0" name="Straight Connector 15"/>
          <p:cNvSpPr/>
          <p:nvPr/>
        </p:nvSpPr>
        <p:spPr>
          <a:xfrm>
            <a:off x="1278000" y="2913120"/>
            <a:ext cx="23335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 type="dt" idx="82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 type="ftr" idx="83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 type="sldNum" idx="84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FF1D-3C04-4E07-82FF-C26C1DE21C5A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7"/>
    <p:sldLayoutId id="2147484001" r:id="rId8"/>
    <p:sldLayoutId id="2147484002" r:id="rId9"/>
    <p:sldLayoutId id="2147484003" r:id="rId10"/>
    <p:sldLayoutId id="2147484004" r:id="rId11"/>
    <p:sldLayoutId id="2147484005" r:id="rId12"/>
    <p:sldLayoutId id="2147484006" r:id="rId13"/>
    <p:sldLayoutId id="2147484007" r:id="rId14"/>
    <p:sldLayoutId id="2147484008" r:id="rId15"/>
    <p:sldLayoutId id="2147484009" r:id="rId16"/>
    <p:sldLayoutId id="2147484010" r:id="rId17"/>
    <p:sldLayoutId id="2147484011" r:id="rId18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37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4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37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6" name="文本框 29701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37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 type="dt" idx="85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 type="ftr" idx="86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 type="sldNum" idx="87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C62C-2382-40B6-BB5B-9A343581B781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7"/>
    <p:sldLayoutId id="2147484014" r:id="rId8"/>
    <p:sldLayoutId id="2147484015" r:id="rId9"/>
    <p:sldLayoutId id="2147484016" r:id="rId10"/>
    <p:sldLayoutId id="2147484017" r:id="rId11"/>
    <p:sldLayoutId id="2147484018" r:id="rId12"/>
    <p:sldLayoutId id="2147484019" r:id="rId13"/>
    <p:sldLayoutId id="2147484020" r:id="rId14"/>
    <p:sldLayoutId id="2147484021" r:id="rId15"/>
    <p:sldLayoutId id="2147484022" r:id="rId16"/>
    <p:sldLayoutId id="2147484023" r:id="rId17"/>
    <p:sldLayoutId id="2147484024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3BD0-82BF-4DCC-9965-91EE368B40B1}" type="datetime">
              <a:rPr b="0" lang="zh-CN" sz="9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F47E-19B2-464F-80F0-76A1DEA87372}" type="slidenum">
              <a:rPr b="0" lang="zh-CN" sz="900" spc="-1" strike="noStrike">
                <a:solidFill>
                  <a:srgbClr val="90c226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42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2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42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4" name="文本框 30725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42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 type="dt" idx="88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 type="ftr" idx="89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 type="sldNum" idx="90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92AA-9623-4595-B77A-8E2FC02FC613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7"/>
    <p:sldLayoutId id="2147484027" r:id="rId8"/>
    <p:sldLayoutId id="2147484028" r:id="rId9"/>
    <p:sldLayoutId id="2147484029" r:id="rId10"/>
    <p:sldLayoutId id="2147484030" r:id="rId11"/>
    <p:sldLayoutId id="2147484031" r:id="rId12"/>
    <p:sldLayoutId id="2147484032" r:id="rId13"/>
    <p:sldLayoutId id="2147484033" r:id="rId14"/>
    <p:sldLayoutId id="2147484034" r:id="rId15"/>
    <p:sldLayoutId id="2147484035" r:id="rId16"/>
    <p:sldLayoutId id="2147484036" r:id="rId17"/>
    <p:sldLayoutId id="2147484037" r:id="rId18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469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0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471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文本框 31749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473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4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5" name="Straight Connector 14"/>
          <p:cNvSpPr/>
          <p:nvPr/>
        </p:nvSpPr>
        <p:spPr>
          <a:xfrm>
            <a:off x="1278000" y="414036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9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9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9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FAB9-9268-434F-9405-A7EF34DB7A98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7"/>
    <p:sldLayoutId id="2147484040" r:id="rId8"/>
    <p:sldLayoutId id="2147484041" r:id="rId9"/>
    <p:sldLayoutId id="2147484042" r:id="rId10"/>
    <p:sldLayoutId id="2147484043" r:id="rId11"/>
    <p:sldLayoutId id="2147484044" r:id="rId12"/>
    <p:sldLayoutId id="2147484045" r:id="rId13"/>
    <p:sldLayoutId id="2147484046" r:id="rId14"/>
    <p:sldLayoutId id="2147484047" r:id="rId15"/>
    <p:sldLayoutId id="2147484048" r:id="rId16"/>
    <p:sldLayoutId id="2147484049" r:id="rId17"/>
    <p:sldLayoutId id="2147484050" r:id="rId18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7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518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19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52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1" name="文本框 32773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522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4" name="TextBox 13"/>
          <p:cNvSpPr/>
          <p:nvPr/>
        </p:nvSpPr>
        <p:spPr>
          <a:xfrm>
            <a:off x="849240" y="9050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TextBox 14"/>
          <p:cNvSpPr/>
          <p:nvPr/>
        </p:nvSpPr>
        <p:spPr>
          <a:xfrm>
            <a:off x="7634160" y="28274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Straight Connector 18"/>
          <p:cNvSpPr/>
          <p:nvPr/>
        </p:nvSpPr>
        <p:spPr>
          <a:xfrm>
            <a:off x="1278000" y="414036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 type="dt" idx="94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 type="ftr" idx="95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 type="sldNum" idx="96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89BD-FF45-47F7-B7F8-D578A9267643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7"/>
    <p:sldLayoutId id="2147484053" r:id="rId8"/>
    <p:sldLayoutId id="2147484054" r:id="rId9"/>
    <p:sldLayoutId id="2147484055" r:id="rId10"/>
    <p:sldLayoutId id="2147484056" r:id="rId11"/>
    <p:sldLayoutId id="2147484057" r:id="rId12"/>
    <p:sldLayoutId id="2147484058" r:id="rId13"/>
    <p:sldLayoutId id="2147484059" r:id="rId14"/>
    <p:sldLayoutId id="2147484060" r:id="rId15"/>
    <p:sldLayoutId id="2147484061" r:id="rId16"/>
    <p:sldLayoutId id="2147484062" r:id="rId17"/>
    <p:sldLayoutId id="2147484063" r:id="rId18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569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0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571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2" name="文本框 33797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573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4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 type="dt" idx="9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 type="ftr" idx="9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 type="sldNum" idx="9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E494-8AE5-4479-80D2-6F52BC1ED8AA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7"/>
    <p:sldLayoutId id="2147484066" r:id="rId8"/>
    <p:sldLayoutId id="2147484067" r:id="rId9"/>
    <p:sldLayoutId id="2147484068" r:id="rId10"/>
    <p:sldLayoutId id="2147484069" r:id="rId11"/>
    <p:sldLayoutId id="2147484070" r:id="rId12"/>
    <p:sldLayoutId id="2147484071" r:id="rId13"/>
    <p:sldLayoutId id="2147484072" r:id="rId14"/>
    <p:sldLayoutId id="2147484073" r:id="rId15"/>
    <p:sldLayoutId id="2147484074" r:id="rId16"/>
    <p:sldLayoutId id="2147484075" r:id="rId17"/>
    <p:sldLayoutId id="2147484076" r:id="rId18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6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617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18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61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0" name="文本框 34821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621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2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3" name="TextBox 11"/>
          <p:cNvSpPr/>
          <p:nvPr/>
        </p:nvSpPr>
        <p:spPr>
          <a:xfrm>
            <a:off x="878040" y="8967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TextBox 12"/>
          <p:cNvSpPr/>
          <p:nvPr/>
        </p:nvSpPr>
        <p:spPr>
          <a:xfrm>
            <a:off x="7650000" y="2608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Straight Connector 25"/>
          <p:cNvSpPr/>
          <p:nvPr/>
        </p:nvSpPr>
        <p:spPr>
          <a:xfrm>
            <a:off x="1278000" y="34290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 type="dt" idx="10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 type="ftr" idx="10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 type="sldNum" idx="10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500E-9D5C-4F48-B83D-FB4626F76835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7"/>
    <p:sldLayoutId id="2147484079" r:id="rId8"/>
    <p:sldLayoutId id="2147484080" r:id="rId9"/>
    <p:sldLayoutId id="2147484081" r:id="rId10"/>
    <p:sldLayoutId id="2147484082" r:id="rId11"/>
    <p:sldLayoutId id="2147484083" r:id="rId12"/>
    <p:sldLayoutId id="2147484084" r:id="rId13"/>
    <p:sldLayoutId id="2147484085" r:id="rId14"/>
    <p:sldLayoutId id="2147484086" r:id="rId15"/>
    <p:sldLayoutId id="2147484087" r:id="rId16"/>
    <p:sldLayoutId id="2147484088" r:id="rId17"/>
    <p:sldLayoutId id="2147484089" r:id="rId18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7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668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9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67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1" name="文本框 35845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672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3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4" name="Straight Connector 14"/>
          <p:cNvSpPr/>
          <p:nvPr/>
        </p:nvSpPr>
        <p:spPr>
          <a:xfrm>
            <a:off x="1278000" y="34290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dt" idx="103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 type="ftr" idx="104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 type="sldNum" idx="105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E234-435B-46D5-9FAD-14DCF8A79F53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7"/>
    <p:sldLayoutId id="2147484092" r:id="rId8"/>
    <p:sldLayoutId id="2147484093" r:id="rId9"/>
    <p:sldLayoutId id="2147484094" r:id="rId10"/>
    <p:sldLayoutId id="2147484095" r:id="rId11"/>
    <p:sldLayoutId id="2147484096" r:id="rId12"/>
    <p:sldLayoutId id="2147484097" r:id="rId13"/>
    <p:sldLayoutId id="2147484098" r:id="rId14"/>
    <p:sldLayoutId id="2147484099" r:id="rId15"/>
    <p:sldLayoutId id="2147484100" r:id="rId16"/>
    <p:sldLayoutId id="2147484101" r:id="rId17"/>
    <p:sldLayoutId id="2147484102" r:id="rId18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6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717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8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71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文本框 36869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721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2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3" name="Straight Connector 13"/>
          <p:cNvSpPr/>
          <p:nvPr/>
        </p:nvSpPr>
        <p:spPr>
          <a:xfrm>
            <a:off x="1278000" y="23544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 type="dt" idx="106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 type="ftr" idx="107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 type="sldNum" idx="108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6420-94C3-4DAF-A1D5-21E9D12DFDA3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7"/>
    <p:sldLayoutId id="2147484105" r:id="rId8"/>
    <p:sldLayoutId id="2147484106" r:id="rId9"/>
    <p:sldLayoutId id="2147484107" r:id="rId10"/>
    <p:sldLayoutId id="2147484108" r:id="rId11"/>
    <p:sldLayoutId id="2147484109" r:id="rId12"/>
    <p:sldLayoutId id="2147484110" r:id="rId13"/>
    <p:sldLayoutId id="2147484111" r:id="rId14"/>
    <p:sldLayoutId id="2147484112" r:id="rId15"/>
    <p:sldLayoutId id="2147484113" r:id="rId16"/>
    <p:sldLayoutId id="2147484114" r:id="rId17"/>
    <p:sldLayoutId id="2147484115" r:id="rId18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5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766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7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1768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9" name="文本框 37893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770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1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2" name="Straight Connector 13"/>
          <p:cNvSpPr/>
          <p:nvPr/>
        </p:nvSpPr>
        <p:spPr>
          <a:xfrm>
            <a:off x="6245280" y="906480"/>
            <a:ext cx="0" cy="496872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dt" idx="109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 type="ftr" idx="110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5"/>
          <p:cNvSpPr>
            <a:spLocks noGrp="1"/>
          </p:cNvSpPr>
          <p:nvPr>
            <p:ph type="sldNum" idx="111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4547-7A60-4798-B59C-10A44ECED073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7"/>
    <p:sldLayoutId id="2147484118" r:id="rId8"/>
    <p:sldLayoutId id="2147484119" r:id="rId9"/>
    <p:sldLayoutId id="2147484120" r:id="rId10"/>
    <p:sldLayoutId id="2147484121" r:id="rId11"/>
    <p:sldLayoutId id="2147484122" r:id="rId12"/>
    <p:sldLayoutId id="2147484123" r:id="rId13"/>
    <p:sldLayoutId id="2147484124" r:id="rId14"/>
    <p:sldLayoutId id="2147484125" r:id="rId15"/>
    <p:sldLayoutId id="2147484126" r:id="rId16"/>
    <p:sldLayoutId id="2147484127" r:id="rId17"/>
    <p:sldLayoutId id="2147484128" r:id="rId18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4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815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6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7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8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9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0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1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2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3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4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 type="dt" idx="11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 type="ftr" idx="11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 type="sldNum" idx="11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46FF-D2C7-4408-AA8D-2C2981DF27C6}" type="slidenum">
              <a:rPr b="0" lang="zh-CN" sz="900" spc="-1" strike="noStrike">
                <a:solidFill>
                  <a:srgbClr val="90c226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86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 type="dt" idx="11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 type="ftr" idx="11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 type="sldNum" idx="11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37B2-C5ED-4B28-9285-2C6E6407978F}" type="slidenum">
              <a:rPr b="0" lang="zh-CN" sz="900" spc="-1" strike="noStrike">
                <a:solidFill>
                  <a:srgbClr val="90c226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9" name="Picture 7" descr="SD-PanelTitle-R1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Rectangle 10"/>
            <p:cNvGrpSpPr/>
            <p:nvPr/>
          </p:nvGrpSpPr>
          <p:grpSpPr>
            <a:xfrm>
              <a:off x="1505520" y="1505520"/>
              <a:ext cx="6138720" cy="3852720"/>
              <a:chOff x="1505520" y="1505520"/>
              <a:chExt cx="6138720" cy="3852720"/>
            </a:xfrm>
          </p:grpSpPr>
          <p:pic>
            <p:nvPicPr>
              <p:cNvPr id="151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1505520" y="1505520"/>
                <a:ext cx="6138720" cy="385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文本框 4101"/>
              <p:cNvSpPr/>
              <p:nvPr/>
            </p:nvSpPr>
            <p:spPr>
              <a:xfrm>
                <a:off x="1514880" y="1519920"/>
                <a:ext cx="6112800" cy="38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53" name="Picture 11" descr="HDRibbonTitle-UniformTrim.png"/>
            <p:cNvPicPr/>
            <p:nvPr/>
          </p:nvPicPr>
          <p:blipFill>
            <a:blip r:embed="rId5"/>
            <a:srcRect l="0" t="0" r="47963" b="0"/>
            <a:stretch/>
          </p:blipFill>
          <p:spPr>
            <a:xfrm>
              <a:off x="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2" descr="HDRibbonTitle-UniformTrim.png"/>
            <p:cNvPicPr/>
            <p:nvPr/>
          </p:nvPicPr>
          <p:blipFill>
            <a:blip r:embed="rId6"/>
            <a:srcRect l="0" t="0" r="47963" b="0"/>
            <a:stretch/>
          </p:blipFill>
          <p:spPr>
            <a:xfrm>
              <a:off x="748008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Straight Connector 14"/>
          <p:cNvSpPr/>
          <p:nvPr/>
        </p:nvSpPr>
        <p:spPr>
          <a:xfrm>
            <a:off x="2019240" y="3471840"/>
            <a:ext cx="511344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6065640" y="5054760"/>
            <a:ext cx="672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1922040" y="5054760"/>
            <a:ext cx="406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816240" y="5054760"/>
            <a:ext cx="414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C9CF-A4A5-47CB-ADA6-574B5AFC7408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92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31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 type="dt" idx="11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 type="ftr" idx="11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 type="sldNum" idx="12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CA59-3813-41F6-A750-B047580A32B0}" type="slidenum">
              <a:rPr b="0" lang="zh-CN" sz="900" spc="-1" strike="noStrike">
                <a:solidFill>
                  <a:srgbClr val="90c226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97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 type="dt" idx="12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 type="ftr" idx="12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5"/>
          <p:cNvSpPr>
            <a:spLocks noGrp="1"/>
          </p:cNvSpPr>
          <p:nvPr>
            <p:ph type="sldNum" idx="12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C60D-4170-4CA2-A0EC-74B3592EE8E3}" type="slidenum">
              <a:rPr b="0" lang="zh-CN" sz="900" spc="-1" strike="noStrike">
                <a:solidFill>
                  <a:srgbClr val="90c226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2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 type="dt" idx="12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 type="ftr" idx="12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 type="sldNum" idx="12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A8AF-73AE-4C1F-8DEF-514BD33C9EAC}" type="slidenum">
              <a:rPr b="0" lang="zh-CN" sz="900" spc="-1" strike="noStrike">
                <a:solidFill>
                  <a:srgbClr val="90c226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7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 type="dt" idx="12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 type="ftr" idx="12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5"/>
          <p:cNvSpPr>
            <a:spLocks noGrp="1"/>
          </p:cNvSpPr>
          <p:nvPr>
            <p:ph type="sldNum" idx="12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D4C5-8A46-489C-A35E-713D7CD88A56}" type="slidenum">
              <a:rPr b="0" lang="zh-CN" sz="900" spc="-1" strike="noStrike">
                <a:solidFill>
                  <a:srgbClr val="90c226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 type="dt" idx="13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4"/>
          <p:cNvSpPr>
            <a:spLocks noGrp="1"/>
          </p:cNvSpPr>
          <p:nvPr>
            <p:ph type="ftr" idx="13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5"/>
          <p:cNvSpPr>
            <a:spLocks noGrp="1"/>
          </p:cNvSpPr>
          <p:nvPr>
            <p:ph type="sldNum" idx="13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4F68-ECB1-407D-85E5-3BCF941DBB6B}" type="slidenum">
              <a:rPr b="0" lang="zh-CN" sz="900" spc="-1" strike="noStrike">
                <a:solidFill>
                  <a:srgbClr val="90c226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8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 type="dt" idx="13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 type="ftr" idx="13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5"/>
          <p:cNvSpPr>
            <a:spLocks noGrp="1"/>
          </p:cNvSpPr>
          <p:nvPr>
            <p:ph type="sldNum" idx="13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6C37-1219-4E79-9677-03269723298D}" type="slidenum">
              <a:rPr b="0" lang="zh-CN" sz="900" spc="-1" strike="noStrike">
                <a:solidFill>
                  <a:srgbClr val="90c226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23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7" name="PlaceHolder 3"/>
          <p:cNvSpPr>
            <a:spLocks noGrp="1"/>
          </p:cNvSpPr>
          <p:nvPr>
            <p:ph type="dt" idx="13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PlaceHolder 4"/>
          <p:cNvSpPr>
            <a:spLocks noGrp="1"/>
          </p:cNvSpPr>
          <p:nvPr>
            <p:ph type="ftr" idx="13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5"/>
          <p:cNvSpPr>
            <a:spLocks noGrp="1"/>
          </p:cNvSpPr>
          <p:nvPr>
            <p:ph type="sldNum" idx="13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6F62-7AFC-47BF-95F0-0D675B802502}" type="slidenum">
              <a:rPr b="0" lang="zh-CN" sz="900" spc="-1" strike="noStrike">
                <a:solidFill>
                  <a:srgbClr val="90c226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28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 type="dt" idx="13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 type="ftr" idx="14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5"/>
          <p:cNvSpPr>
            <a:spLocks noGrp="1"/>
          </p:cNvSpPr>
          <p:nvPr>
            <p:ph type="sldNum" idx="14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7336-D07C-4928-BD96-34C700AA42E3}" type="slidenum">
              <a:rPr b="0" lang="zh-CN" sz="900" spc="-1" strike="noStrike">
                <a:solidFill>
                  <a:srgbClr val="90c226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33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 type="dt" idx="14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 type="ftr" idx="14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5"/>
          <p:cNvSpPr>
            <a:spLocks noGrp="1"/>
          </p:cNvSpPr>
          <p:nvPr>
            <p:ph type="sldNum" idx="14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7626-66DD-4789-B19A-E2D60A4A8D69}" type="slidenum">
              <a:rPr b="0" lang="zh-CN" sz="900" spc="-1" strike="noStrike">
                <a:solidFill>
                  <a:srgbClr val="90c226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39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 type="dt" idx="14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PlaceHolder 4"/>
          <p:cNvSpPr>
            <a:spLocks noGrp="1"/>
          </p:cNvSpPr>
          <p:nvPr>
            <p:ph type="ftr" idx="14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5"/>
          <p:cNvSpPr>
            <a:spLocks noGrp="1"/>
          </p:cNvSpPr>
          <p:nvPr>
            <p:ph type="sldNum" idx="14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303B-DE18-4EC6-A953-234A3CB9170F}" type="slidenum">
              <a:rPr b="0" lang="zh-CN" sz="900" spc="-1" strike="noStrike">
                <a:solidFill>
                  <a:srgbClr val="90c226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98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20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文本框 5125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02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Straight Connector 6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6007-8F6B-44A2-AE0B-5D28812F0211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44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 type="dt" idx="14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 type="ftr" idx="14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 type="sldNum" idx="15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A6FD-96D3-449C-8FCB-4504979FC02D}" type="slidenum">
              <a:rPr b="0" lang="zh-CN" sz="900" spc="-1" strike="noStrike">
                <a:solidFill>
                  <a:srgbClr val="90c226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247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8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24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文本框 6149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51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Straight Connector 30"/>
          <p:cNvSpPr/>
          <p:nvPr/>
        </p:nvSpPr>
        <p:spPr>
          <a:xfrm>
            <a:off x="1278000" y="359892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4140-BDF7-4510-BA20-4C46E38BCD25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296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298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文本框 7173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00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2" name="Straight Connector 7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0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1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DE26-1C09-4CAB-87D7-8C6CB9B8D7B6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345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6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347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文本框 8197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49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Straight Connector 40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3076-C404-4C47-8B1E-0C3CAE849F42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394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5" name="Rectangle 8"/>
            <p:cNvGrpSpPr/>
            <p:nvPr/>
          </p:nvGrpSpPr>
          <p:grpSpPr>
            <a:xfrm>
              <a:off x="542520" y="530280"/>
              <a:ext cx="8071200" cy="5785200"/>
              <a:chOff x="542520" y="530280"/>
              <a:chExt cx="8071200" cy="5785200"/>
            </a:xfrm>
          </p:grpSpPr>
          <p:pic>
            <p:nvPicPr>
              <p:cNvPr id="396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2520" y="530280"/>
                <a:ext cx="8071200" cy="578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文本框 9221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98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0" name="Straight Connector 13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5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6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7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FA48-683F-4730-9CE8-7DE4F0E3BE0C}" type="slidenum">
              <a:rPr b="0" lang="zh-CN" sz="10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178920" y="2060280"/>
            <a:ext cx="8713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Trebuchet MS"/>
              </a:rPr>
              <a:t>UNIT  SEVEN 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Trebuchet MS"/>
              </a:rPr>
              <a:t>I WANT TO BE  A TEACHER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Trebuchet MS"/>
              </a:rPr>
              <a:t>Lesson 24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425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What does your father do?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He’s a singer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10" name="图片 2" descr=""/>
          <p:cNvPicPr/>
          <p:nvPr/>
        </p:nvPicPr>
        <p:blipFill>
          <a:blip r:embed="rId2"/>
          <a:srcRect l="0" t="6841" r="0" b="0"/>
          <a:stretch/>
        </p:blipFill>
        <p:spPr>
          <a:xfrm>
            <a:off x="600120" y="2349360"/>
            <a:ext cx="39607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285840" y="642960"/>
            <a:ext cx="8424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What does your mother do?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She’s an athlete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12" name="图片 53250" descr=""/>
          <p:cNvPicPr/>
          <p:nvPr/>
        </p:nvPicPr>
        <p:blipFill>
          <a:blip r:embed="rId2"/>
          <a:srcRect l="0" t="0" r="0" b="16396"/>
          <a:stretch/>
        </p:blipFill>
        <p:spPr>
          <a:xfrm>
            <a:off x="1476360" y="2349360"/>
            <a:ext cx="4751280" cy="26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632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What does your mother do?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She’s an actress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14" name="图片 2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26640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27416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rebuchet MS"/>
              </a:rPr>
              <a:t>--What does your mother do?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Trebuchet MS"/>
              </a:rPr>
              <a:t>--She’s a famous singer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16" name="图片 55298" descr=""/>
          <p:cNvPicPr/>
          <p:nvPr/>
        </p:nvPicPr>
        <p:blipFill>
          <a:blip r:embed="rId2"/>
          <a:stretch/>
        </p:blipFill>
        <p:spPr>
          <a:xfrm>
            <a:off x="971640" y="2276640"/>
            <a:ext cx="540072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424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What does your mother do?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She’s a nurse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18" name="图片 2" descr=""/>
          <p:cNvPicPr/>
          <p:nvPr/>
        </p:nvPicPr>
        <p:blipFill>
          <a:blip r:embed="rId2"/>
          <a:srcRect l="0" t="0" r="0" b="20434"/>
          <a:stretch/>
        </p:blipFill>
        <p:spPr>
          <a:xfrm>
            <a:off x="900000" y="2060640"/>
            <a:ext cx="489600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424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What does your mother do?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She’s a scientist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20" name="图片 3" descr=""/>
          <p:cNvPicPr/>
          <p:nvPr/>
        </p:nvPicPr>
        <p:blipFill>
          <a:blip r:embed="rId2"/>
          <a:srcRect l="0" t="0" r="0" b="15609"/>
          <a:stretch/>
        </p:blipFill>
        <p:spPr>
          <a:xfrm>
            <a:off x="1116000" y="2276640"/>
            <a:ext cx="460836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424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What does your mother do?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She’s a waitress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22" name="图片 58370" descr=""/>
          <p:cNvPicPr/>
          <p:nvPr/>
        </p:nvPicPr>
        <p:blipFill>
          <a:blip r:embed="rId2"/>
          <a:srcRect l="38901" t="0" r="0" b="0"/>
          <a:stretch/>
        </p:blipFill>
        <p:spPr>
          <a:xfrm>
            <a:off x="1476360" y="2492280"/>
            <a:ext cx="355932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3" name="Picture 2" descr="H:\科大讯飞实习\PPT背景素材\图片1.jpg"/>
          <p:cNvPicPr/>
          <p:nvPr/>
        </p:nvPicPr>
        <p:blipFill>
          <a:blip r:embed="rId1"/>
          <a:stretch/>
        </p:blipFill>
        <p:spPr>
          <a:xfrm>
            <a:off x="0" y="-6480"/>
            <a:ext cx="9132840" cy="6850080"/>
          </a:xfrm>
          <a:prstGeom prst="rect">
            <a:avLst/>
          </a:prstGeom>
          <a:ln w="0">
            <a:noFill/>
          </a:ln>
        </p:spPr>
      </p:pic>
      <p:pic>
        <p:nvPicPr>
          <p:cNvPr id="2524" name="矩形 3" descr=""/>
          <p:cNvPicPr/>
          <p:nvPr/>
        </p:nvPicPr>
        <p:blipFill>
          <a:blip r:embed="rId2"/>
          <a:stretch/>
        </p:blipFill>
        <p:spPr>
          <a:xfrm>
            <a:off x="-249120" y="384120"/>
            <a:ext cx="754524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5" name="Picture 2" descr="H:\科大讯飞实习\PPT背景素材\图片1.jpg"/>
          <p:cNvPicPr/>
          <p:nvPr/>
        </p:nvPicPr>
        <p:blipFill>
          <a:blip r:embed="rId1"/>
          <a:stretch/>
        </p:blipFill>
        <p:spPr>
          <a:xfrm>
            <a:off x="0" y="-6480"/>
            <a:ext cx="9132840" cy="6850080"/>
          </a:xfrm>
          <a:prstGeom prst="rect">
            <a:avLst/>
          </a:prstGeom>
          <a:ln w="0">
            <a:noFill/>
          </a:ln>
        </p:spPr>
      </p:pic>
      <p:sp>
        <p:nvSpPr>
          <p:cNvPr id="2526" name="TextBox 3"/>
          <p:cNvSpPr/>
          <p:nvPr/>
        </p:nvSpPr>
        <p:spPr>
          <a:xfrm>
            <a:off x="1099440" y="765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记忆大比拼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7" name="TextBox 4"/>
          <p:cNvSpPr/>
          <p:nvPr/>
        </p:nvSpPr>
        <p:spPr>
          <a:xfrm>
            <a:off x="1250640" y="2046240"/>
            <a:ext cx="286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老师将单词卡片按照随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顺序摆好，学生记忆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之后老师随意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乱顺序，学生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据记忆将单词还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TextBox 3"/>
          <p:cNvSpPr/>
          <p:nvPr/>
        </p:nvSpPr>
        <p:spPr>
          <a:xfrm>
            <a:off x="3120840" y="2808360"/>
            <a:ext cx="291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TextBox 4"/>
          <p:cNvSpPr/>
          <p:nvPr/>
        </p:nvSpPr>
        <p:spPr>
          <a:xfrm>
            <a:off x="1283400" y="4508640"/>
            <a:ext cx="70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.Remember these new wo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.Read the dialogue to your parent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2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2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5" name="矩形 3" descr=""/>
          <p:cNvPicPr/>
          <p:nvPr/>
        </p:nvPicPr>
        <p:blipFill>
          <a:blip r:embed="rId1"/>
          <a:stretch/>
        </p:blipFill>
        <p:spPr>
          <a:xfrm>
            <a:off x="981000" y="1779480"/>
            <a:ext cx="71755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0" name="Picture 2" descr="H:\科大讯飞实习\PPT背景素材\zxcv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31" name="矩形 3" descr=""/>
          <p:cNvPicPr/>
          <p:nvPr/>
        </p:nvPicPr>
        <p:blipFill>
          <a:blip r:embed="rId2"/>
          <a:stretch/>
        </p:blipFill>
        <p:spPr>
          <a:xfrm>
            <a:off x="1243080" y="2567160"/>
            <a:ext cx="66517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85672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aunt  </a:t>
            </a: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伯母，姨母，姑母，舅母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97" name="图片 13" descr=""/>
          <p:cNvPicPr/>
          <p:nvPr/>
        </p:nvPicPr>
        <p:blipFill>
          <a:blip r:embed="rId2"/>
          <a:stretch/>
        </p:blipFill>
        <p:spPr>
          <a:xfrm>
            <a:off x="1116000" y="1805040"/>
            <a:ext cx="446400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85672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                   </a:t>
            </a: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uncle </a:t>
            </a: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叔叔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99" name="图片 2" descr=""/>
          <p:cNvPicPr/>
          <p:nvPr/>
        </p:nvPicPr>
        <p:blipFill>
          <a:blip r:embed="rId2"/>
          <a:srcRect l="0" t="0" r="3498" b="0"/>
          <a:stretch/>
        </p:blipFill>
        <p:spPr>
          <a:xfrm>
            <a:off x="2627280" y="1268280"/>
            <a:ext cx="225108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85672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               </a:t>
            </a: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hospital  </a:t>
            </a: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医院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01" name="图片 3" descr=""/>
          <p:cNvPicPr/>
          <p:nvPr/>
        </p:nvPicPr>
        <p:blipFill>
          <a:blip r:embed="rId2"/>
          <a:srcRect l="0" t="0" r="0" b="7019"/>
          <a:stretch/>
        </p:blipFill>
        <p:spPr>
          <a:xfrm>
            <a:off x="2124000" y="1413000"/>
            <a:ext cx="360036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2" name="矩形 3" descr=""/>
          <p:cNvPicPr/>
          <p:nvPr/>
        </p:nvPicPr>
        <p:blipFill>
          <a:blip r:embed="rId1"/>
          <a:stretch/>
        </p:blipFill>
        <p:spPr>
          <a:xfrm>
            <a:off x="517680" y="1847880"/>
            <a:ext cx="81025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2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424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What does your father do?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He’s a teacher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04" name="图片 2" descr=""/>
          <p:cNvPicPr/>
          <p:nvPr/>
        </p:nvPicPr>
        <p:blipFill>
          <a:blip r:embed="rId2"/>
          <a:stretch/>
        </p:blipFill>
        <p:spPr>
          <a:xfrm>
            <a:off x="1258920" y="1844640"/>
            <a:ext cx="38196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424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What does your father do?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He’s a doctor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06" name="图片 2" descr=""/>
          <p:cNvPicPr/>
          <p:nvPr/>
        </p:nvPicPr>
        <p:blipFill>
          <a:blip r:embed="rId2"/>
          <a:srcRect l="0" t="0" r="0" b="17907"/>
          <a:stretch/>
        </p:blipFill>
        <p:spPr>
          <a:xfrm>
            <a:off x="826920" y="2205000"/>
            <a:ext cx="396108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424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What does your father do?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rebuchet MS"/>
              </a:rPr>
              <a:t>--He’s a nurse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08" name="图片 3" descr=""/>
          <p:cNvPicPr/>
          <p:nvPr/>
        </p:nvPicPr>
        <p:blipFill>
          <a:blip r:embed="rId2"/>
          <a:srcRect l="0" t="0" r="0" b="20252"/>
          <a:stretch/>
        </p:blipFill>
        <p:spPr>
          <a:xfrm>
            <a:off x="755640" y="2492280"/>
            <a:ext cx="482436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4T01:02:49Z</dcterms:created>
  <dc:creator/>
  <dc:description/>
  <dc:language>en-US</dc:language>
  <cp:lastModifiedBy>Administrator</cp:lastModifiedBy>
  <dcterms:modified xsi:type="dcterms:W3CDTF">2017-04-19T08:18:06Z</dcterms:modified>
  <cp:revision>9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